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shreg.wav" ContentType="audio/x-wav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375C-514B-4DB4-9015-546281C4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B733-A749-4330-8132-8F718676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F8C-693E-484E-9A49-79C25F24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7ECA-4292-4D6D-A936-ED0A0C87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5961-2841-435A-8613-A8257F51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560F-B41A-4DAA-8D26-10ABE086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E8F9-07C4-42FE-BA56-72EA5E9A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4499-A628-4014-AAD6-70E640C8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47FD-917D-44DA-A665-93F55FB1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85A5-FCFF-4E4C-8F75-39AC3805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73B1-DBB7-459C-8C0C-9FBC51CB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8DE7-4CBD-4430-B62F-2A34ECE2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AF9B-116E-4206-BE66-79400802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450D-38A8-4A66-84F9-492A4144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39DA-EA50-4DA7-B3AE-F88885DD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3E3C-D89E-4599-9DAC-5072045C1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77A5-9AD2-4766-AC27-5014EFAD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5CC-931D-46A6-AE69-C2779BE9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98CE-38E2-49F4-B47B-2598BA86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FAC9-4495-427A-A6E4-76DA23F2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6A11-D43A-4CD0-AD9F-CD1DB429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03A4-80AB-4180-AFF7-8614D68E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1301-51C7-4251-99F8-8B6ED712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99DB-0870-4E13-B4A3-4990B5B2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A419-58AF-4962-A985-E4481ED2D3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B89D-B67A-4E2B-ADC8-7D51E01B01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9bf656"/>
                </a:solidFill>
                <a:latin typeface="Arial Black"/>
                <a:cs typeface="DecoType Naskh Swashes"/>
              </a:rPr>
              <a:t>بسم الله الرحمن الرحيم</a:t>
            </a:r>
            <a:r>
              <a:rPr b="1" lang="en-US" sz="3600" spc="-1" strike="noStrike">
                <a:solidFill>
                  <a:srgbClr val="9bf656"/>
                </a:solidFill>
                <a:latin typeface="Arial Black"/>
                <a:ea typeface="DecoType Naskh Swashes"/>
              </a:rPr>
              <a:t> </a:t>
            </a:r>
            <a:br>
              <a:rPr sz="36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الملتقى التربوي</a:t>
            </a:r>
            <a:br>
              <a:rPr sz="4800"/>
            </a:br>
            <a:br>
              <a:rPr sz="48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مع تحيات </a:t>
            </a:r>
            <a:br>
              <a:rPr sz="48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مشرف قسم اللغة العربية</a:t>
            </a:r>
            <a:br>
              <a:rPr sz="4800"/>
            </a:br>
            <a:br>
              <a:rPr sz="48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جمعة أبوعوده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63640" y="0"/>
            <a:ext cx="5184720" cy="1484280"/>
          </a:xfrm>
          <a:custGeom>
            <a:avLst/>
            <a:gdLst>
              <a:gd name="textAreaLeft" fmla="*/ 1420200 w 5184720"/>
              <a:gd name="textAreaRight" fmla="*/ 3764520 w 5184720"/>
              <a:gd name="textAreaTop" fmla="*/ 406440 h 1484280"/>
              <a:gd name="textAreaBottom" fmla="*/ 10778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990000"/>
                </a:solidFill>
                <a:latin typeface="Arial"/>
                <a:cs typeface="Al-Hadith1"/>
              </a:rPr>
              <a:t>أقسام الإدغا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1197000"/>
            <a:ext cx="2305080" cy="1440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88000" y="2708280"/>
            <a:ext cx="255600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  <a:cs typeface="Al-Hadith1"/>
              </a:rPr>
              <a:t>إدغام بغن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02920" y="1197000"/>
            <a:ext cx="2305080" cy="1440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280" y="2708280"/>
            <a:ext cx="248472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Hadith1"/>
              </a:rPr>
              <a:t>إدغام بغير غن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l-Hadith1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1557360"/>
            <a:ext cx="3384720" cy="2303280"/>
          </a:xfrm>
          <a:prstGeom prst="wedgeEllipseCallout">
            <a:avLst>
              <a:gd name="adj1" fmla="val 73453"/>
              <a:gd name="adj2" fmla="val 17884"/>
            </a:avLst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Hadith1"/>
              </a:rPr>
              <a:t>حركة تخرج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ن الخيشو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cc"/>
                </a:solidFill>
                <a:latin typeface="Arial"/>
              </a:rPr>
              <a:t>بمقدار حركت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08720" y="4221000"/>
            <a:ext cx="136692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5373720"/>
            <a:ext cx="1297080" cy="863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5516640"/>
            <a:ext cx="136692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4149720"/>
            <a:ext cx="151272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5373720"/>
            <a:ext cx="151308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24360" y="4292640"/>
            <a:ext cx="136872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Arial"/>
              </a:rPr>
              <a:t>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63640" y="0"/>
            <a:ext cx="5184720" cy="1484280"/>
          </a:xfrm>
          <a:custGeom>
            <a:avLst/>
            <a:gdLst>
              <a:gd name="textAreaLeft" fmla="*/ 1420200 w 5184720"/>
              <a:gd name="textAreaRight" fmla="*/ 3764520 w 5184720"/>
              <a:gd name="textAreaTop" fmla="*/ 406440 h 1484280"/>
              <a:gd name="textAreaBottom" fmla="*/ 10778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Al-Hadith1"/>
              </a:rPr>
              <a:t> الإقــــلا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93080" y="1628640"/>
            <a:ext cx="1839960" cy="1295640"/>
          </a:xfrm>
          <a:prstGeom prst="leftArrow">
            <a:avLst>
              <a:gd name="adj1" fmla="val 98620"/>
              <a:gd name="adj2" fmla="val 35536"/>
            </a:avLst>
          </a:prstGeom>
          <a:solidFill>
            <a:srgbClr val="ffffb7"/>
          </a:solidFill>
          <a:ln w="93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600"/>
                </a:solidFill>
                <a:latin typeface="Tahoma"/>
                <a:cs typeface="Al-Hadith1"/>
              </a:rPr>
              <a:t>تعريفــ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700280"/>
            <a:ext cx="6696000" cy="122400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Tahoma"/>
              </a:rPr>
              <a:t>هو قلب النون الساكنة أوالتنوين ميمًا عند البا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Tahoma"/>
              </a:rPr>
              <a:t> مع مراعات  الغنة و الإخفا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16360" y="3284640"/>
            <a:ext cx="3816360" cy="1439640"/>
          </a:xfrm>
          <a:custGeom>
            <a:avLst/>
            <a:gdLst>
              <a:gd name="textAreaLeft" fmla="*/ 31680 w 3816360"/>
              <a:gd name="textAreaRight" fmla="*/ 3784680 w 3816360"/>
              <a:gd name="textAreaTop" fmla="*/ 297000 h 1439640"/>
              <a:gd name="textAreaBottom" fmla="*/ 114264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</a:rPr>
              <a:t>حرف الإقلاب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0634600">
            <a:off x="2340000" y="4941720"/>
            <a:ext cx="3816360" cy="12258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6600"/>
                </a:solidFill>
                <a:latin typeface="Arial"/>
              </a:rPr>
              <a:t>ب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7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7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763640" y="0"/>
            <a:ext cx="5184720" cy="1484280"/>
          </a:xfrm>
          <a:custGeom>
            <a:avLst/>
            <a:gdLst>
              <a:gd name="textAreaLeft" fmla="*/ 1420200 w 5184720"/>
              <a:gd name="textAreaRight" fmla="*/ 3764520 w 5184720"/>
              <a:gd name="textAreaTop" fmla="*/ 406440 h 1484280"/>
              <a:gd name="textAreaBottom" fmla="*/ 10778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l-Hadith1"/>
              </a:rPr>
              <a:t>الإخفــــــــــا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1486080"/>
            <a:ext cx="1839960" cy="1150920"/>
          </a:xfrm>
          <a:prstGeom prst="leftArrow">
            <a:avLst>
              <a:gd name="adj1" fmla="val 98620"/>
              <a:gd name="adj2" fmla="val 4000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Tahoma"/>
                <a:cs typeface="Hesham Ghorn Italic"/>
              </a:rPr>
              <a:t>تعريفــ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1628640"/>
            <a:ext cx="6624360" cy="100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و النطق بالنون الساكنة والتنوين وسطًا بين الإظه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إدغام مع بقاء الغ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92360" y="2852640"/>
            <a:ext cx="2664000" cy="1224000"/>
          </a:xfrm>
          <a:custGeom>
            <a:avLst/>
            <a:gdLst>
              <a:gd name="textAreaLeft" fmla="*/ 21960 w 2664000"/>
              <a:gd name="textAreaRight" fmla="*/ 2642040 w 2664000"/>
              <a:gd name="textAreaTop" fmla="*/ 252360 h 1224000"/>
              <a:gd name="textAreaBottom" fmla="*/ 971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</a:rPr>
              <a:t>حروفــ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734080"/>
            <a:ext cx="8642160" cy="112392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ص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ف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ذ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ا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ث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نا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ك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م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ج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اد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ش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خص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ق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د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س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ما   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د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م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ط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يبًا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ز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د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ea typeface="Akhbar MT"/>
              </a:rPr>
              <a:t> فـ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ي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ت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قى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ض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ع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ظ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الم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956720" y="3213000"/>
            <a:ext cx="86328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458136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65300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4005360"/>
            <a:ext cx="79236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328464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7640" y="335772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32720" y="486900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ج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88000" y="400536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58920" y="314172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450864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321300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885080" y="479736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36000" y="3789360"/>
            <a:ext cx="86328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95640" y="494172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4869000"/>
            <a:ext cx="863640" cy="863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7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7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75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75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75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75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75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75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75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75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75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75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75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75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75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75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7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7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75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75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32000" y="0"/>
            <a:ext cx="6624720" cy="1628640"/>
          </a:xfrm>
          <a:custGeom>
            <a:avLst/>
            <a:gdLst>
              <a:gd name="textAreaLeft" fmla="*/ 1814760 w 6624720"/>
              <a:gd name="textAreaRight" fmla="*/ 4809960 w 6624720"/>
              <a:gd name="textAreaTop" fmla="*/ 446040 h 1628640"/>
              <a:gd name="textAreaBottom" fmla="*/ 118260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l-Hadith1"/>
              </a:rPr>
              <a:t>النون والميم المشدّدت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2000" y="1484280"/>
            <a:ext cx="2987640" cy="1152720"/>
          </a:xfrm>
          <a:prstGeom prst="leftArrow">
            <a:avLst>
              <a:gd name="adj1" fmla="val 74380"/>
              <a:gd name="adj2" fmla="val 73447"/>
            </a:avLst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Hesham Ghorn Italic"/>
              </a:rPr>
              <a:t>       </a:t>
            </a:r>
            <a:r>
              <a:rPr b="0" lang="hi-IN" sz="3200" spc="-1" strike="noStrike">
                <a:solidFill>
                  <a:srgbClr val="ff3300"/>
                </a:solidFill>
                <a:latin typeface="Arial"/>
                <a:cs typeface="Hesham Ghorn Italic"/>
              </a:rPr>
              <a:t>ما هو الحرف المشد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47640" y="1700280"/>
            <a:ext cx="4319640" cy="86508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Al-Hadith1"/>
              </a:rPr>
              <a:t>هو حرفان الأول ساكن و الثاني متحر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64360" y="3068640"/>
            <a:ext cx="1655640" cy="79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مثال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51640" y="3068640"/>
            <a:ext cx="108108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م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59280" y="3068640"/>
            <a:ext cx="5047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3068640"/>
            <a:ext cx="108108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م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16360" y="3068640"/>
            <a:ext cx="504720" cy="646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3068640"/>
            <a:ext cx="108144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مّ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79640" y="3933720"/>
            <a:ext cx="4824360" cy="50328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و ما قيل في الميم يقال في النو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5516640"/>
            <a:ext cx="6985080" cy="1008000"/>
          </a:xfrm>
          <a:custGeom>
            <a:avLst/>
            <a:gdLst>
              <a:gd name="textAreaLeft" fmla="*/ 1506600 w 6985080"/>
              <a:gd name="textAreaRight" fmla="*/ 5478480 w 6985080"/>
              <a:gd name="textAreaTop" fmla="*/ 217440 h 1008000"/>
              <a:gd name="textAreaBottom" fmla="*/ 790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48" y="14053"/>
                </a:lnTo>
                <a:lnTo>
                  <a:pt x="3163" y="18437"/>
                </a:lnTo>
                <a:lnTo>
                  <a:pt x="7407" y="18794"/>
                </a:lnTo>
                <a:lnTo>
                  <a:pt x="10800" y="21600"/>
                </a:lnTo>
                <a:lnTo>
                  <a:pt x="14053" y="18852"/>
                </a:lnTo>
                <a:lnTo>
                  <a:pt x="18437" y="18437"/>
                </a:lnTo>
                <a:lnTo>
                  <a:pt x="18794" y="14193"/>
                </a:lnTo>
                <a:lnTo>
                  <a:pt x="21600" y="10800"/>
                </a:lnTo>
                <a:lnTo>
                  <a:pt x="18852" y="7547"/>
                </a:lnTo>
                <a:lnTo>
                  <a:pt x="18437" y="3163"/>
                </a:lnTo>
                <a:lnTo>
                  <a:pt x="14193" y="2806"/>
                </a:lnTo>
                <a:lnTo>
                  <a:pt x="10800" y="0"/>
                </a:lnTo>
                <a:lnTo>
                  <a:pt x="7547" y="2748"/>
                </a:lnTo>
                <a:lnTo>
                  <a:pt x="3163" y="3163"/>
                </a:lnTo>
                <a:lnTo>
                  <a:pt x="2806" y="740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00"/>
                </a:solidFill>
                <a:latin typeface="Arial"/>
                <a:cs typeface="Al-Hadith1"/>
              </a:rPr>
              <a:t>و يسميان حرف غنة مشد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24360" y="4508640"/>
            <a:ext cx="2951280" cy="865080"/>
          </a:xfrm>
          <a:prstGeom prst="ellipse">
            <a:avLst/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إ</a:t>
            </a:r>
            <a:r>
              <a:rPr b="0" lang="hi-IN" sz="2800" spc="-1" strike="noStrike">
                <a:solidFill>
                  <a:srgbClr val="ff3300"/>
                </a:solidFill>
                <a:latin typeface="Arial"/>
              </a:rPr>
              <a:t>نَّ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الأبرار لفي نع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6920" y="4508640"/>
            <a:ext cx="2737080" cy="865080"/>
          </a:xfrm>
          <a:prstGeom prst="ellipse">
            <a:avLst/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ث</a:t>
            </a:r>
            <a:r>
              <a:rPr b="0" lang="hi-IN" sz="2800" spc="-1" strike="noStrike">
                <a:solidFill>
                  <a:srgbClr val="ff3300"/>
                </a:solidFill>
                <a:latin typeface="Arial"/>
              </a:rPr>
              <a:t>مَّ </a:t>
            </a: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كلا سوف تعل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050920" y="260280"/>
            <a:ext cx="5329440" cy="12970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  <a:cs typeface="Al-Hadith1"/>
              </a:rPr>
              <a:t>أحكام الميم الساكن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96000" y="1800360"/>
            <a:ext cx="3097080" cy="1197000"/>
          </a:xfrm>
          <a:custGeom>
            <a:avLst/>
            <a:gdLst>
              <a:gd name="textAreaLeft" fmla="*/ 705240 w 3097080"/>
              <a:gd name="textAreaRight" fmla="*/ 2391840 w 3097080"/>
              <a:gd name="textAreaTop" fmla="*/ 272520 h 1197000"/>
              <a:gd name="textAreaBottom" fmla="*/ 92448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9" y="13916"/>
                </a:lnTo>
                <a:lnTo>
                  <a:pt x="3163" y="18437"/>
                </a:lnTo>
                <a:lnTo>
                  <a:pt x="7550" y="18456"/>
                </a:lnTo>
                <a:lnTo>
                  <a:pt x="10800" y="21600"/>
                </a:lnTo>
                <a:lnTo>
                  <a:pt x="13916" y="18511"/>
                </a:lnTo>
                <a:lnTo>
                  <a:pt x="18437" y="18437"/>
                </a:lnTo>
                <a:lnTo>
                  <a:pt x="18456" y="14050"/>
                </a:lnTo>
                <a:lnTo>
                  <a:pt x="21600" y="10800"/>
                </a:lnTo>
                <a:lnTo>
                  <a:pt x="18511" y="7684"/>
                </a:lnTo>
                <a:lnTo>
                  <a:pt x="18437" y="3163"/>
                </a:lnTo>
                <a:lnTo>
                  <a:pt x="14050" y="3144"/>
                </a:lnTo>
                <a:lnTo>
                  <a:pt x="10800" y="0"/>
                </a:lnTo>
                <a:lnTo>
                  <a:pt x="7684" y="3089"/>
                </a:lnTo>
                <a:lnTo>
                  <a:pt x="3163" y="3163"/>
                </a:lnTo>
                <a:lnTo>
                  <a:pt x="3144" y="755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00"/>
                </a:solidFill>
                <a:latin typeface="Arial"/>
              </a:rPr>
              <a:t>ما هي الميم الساكنة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1916280"/>
            <a:ext cx="4176720" cy="792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cc"/>
                </a:solidFill>
                <a:latin typeface="Arial"/>
              </a:rPr>
              <a:t>هي التي لا حركة ل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5640" y="2851200"/>
            <a:ext cx="201636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6600cc"/>
                </a:solidFill>
                <a:latin typeface="Arial"/>
              </a:rPr>
              <a:t>أمثلة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64000" y="4149720"/>
            <a:ext cx="3240360" cy="1628640"/>
          </a:xfrm>
          <a:custGeom>
            <a:avLst/>
            <a:gdLst>
              <a:gd name="textAreaLeft" fmla="*/ 757440 w 3240360"/>
              <a:gd name="textAreaRight" fmla="*/ 2482920 w 3240360"/>
              <a:gd name="textAreaTop" fmla="*/ 380520 h 1628640"/>
              <a:gd name="textAreaBottom" fmla="*/ 124812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59" y="13847"/>
                </a:lnTo>
                <a:lnTo>
                  <a:pt x="3163" y="18437"/>
                </a:lnTo>
                <a:lnTo>
                  <a:pt x="7622" y="18286"/>
                </a:lnTo>
                <a:lnTo>
                  <a:pt x="10800" y="21600"/>
                </a:lnTo>
                <a:lnTo>
                  <a:pt x="13847" y="18341"/>
                </a:lnTo>
                <a:lnTo>
                  <a:pt x="18437" y="18437"/>
                </a:lnTo>
                <a:lnTo>
                  <a:pt x="18286" y="13978"/>
                </a:lnTo>
                <a:lnTo>
                  <a:pt x="21600" y="10800"/>
                </a:lnTo>
                <a:lnTo>
                  <a:pt x="18341" y="7753"/>
                </a:lnTo>
                <a:lnTo>
                  <a:pt x="18437" y="3163"/>
                </a:lnTo>
                <a:lnTo>
                  <a:pt x="13978" y="3314"/>
                </a:lnTo>
                <a:lnTo>
                  <a:pt x="10800" y="0"/>
                </a:lnTo>
                <a:lnTo>
                  <a:pt x="7753" y="3259"/>
                </a:lnTo>
                <a:lnTo>
                  <a:pt x="3163" y="3163"/>
                </a:lnTo>
                <a:lnTo>
                  <a:pt x="3314" y="762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3300"/>
                </a:solidFill>
                <a:latin typeface="Arial"/>
              </a:rPr>
              <a:t>حكيمْ</a:t>
            </a:r>
            <a:r>
              <a:rPr b="0" lang="ar-SA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4149720"/>
            <a:ext cx="3240000" cy="1628640"/>
          </a:xfrm>
          <a:custGeom>
            <a:avLst/>
            <a:gdLst>
              <a:gd name="textAreaLeft" fmla="*/ 742680 w 3240000"/>
              <a:gd name="textAreaRight" fmla="*/ 2497320 w 3240000"/>
              <a:gd name="textAreaTop" fmla="*/ 373320 h 1628640"/>
              <a:gd name="textAreaBottom" fmla="*/ 125532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31" y="13898"/>
                </a:lnTo>
                <a:lnTo>
                  <a:pt x="3163" y="18437"/>
                </a:lnTo>
                <a:lnTo>
                  <a:pt x="7568" y="18413"/>
                </a:lnTo>
                <a:lnTo>
                  <a:pt x="10800" y="21600"/>
                </a:lnTo>
                <a:lnTo>
                  <a:pt x="13898" y="18469"/>
                </a:lnTo>
                <a:lnTo>
                  <a:pt x="18437" y="18437"/>
                </a:lnTo>
                <a:lnTo>
                  <a:pt x="18413" y="14032"/>
                </a:lnTo>
                <a:lnTo>
                  <a:pt x="21600" y="10800"/>
                </a:lnTo>
                <a:lnTo>
                  <a:pt x="18469" y="7702"/>
                </a:lnTo>
                <a:lnTo>
                  <a:pt x="18437" y="3163"/>
                </a:lnTo>
                <a:lnTo>
                  <a:pt x="14032" y="3187"/>
                </a:lnTo>
                <a:lnTo>
                  <a:pt x="10800" y="0"/>
                </a:lnTo>
                <a:lnTo>
                  <a:pt x="7702" y="3131"/>
                </a:lnTo>
                <a:lnTo>
                  <a:pt x="3163" y="3163"/>
                </a:lnTo>
                <a:lnTo>
                  <a:pt x="3187" y="7568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3300"/>
                </a:solidFill>
                <a:latin typeface="Arial"/>
              </a:rPr>
              <a:t>تمْسون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 flipH="1">
            <a:off x="1979640" y="2133720"/>
            <a:ext cx="1512720" cy="1871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12000" y="2133720"/>
            <a:ext cx="1439640" cy="208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16360" y="2133720"/>
            <a:ext cx="71640" cy="2016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4365720"/>
            <a:ext cx="201600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45fed"/>
                </a:solidFill>
                <a:latin typeface="Arial"/>
              </a:rPr>
              <a:t>الإخفاء الشفو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08360" y="4221000"/>
            <a:ext cx="2016000" cy="122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45fed"/>
                </a:solidFill>
                <a:latin typeface="Arial"/>
              </a:rPr>
              <a:t>الإدغام الصغير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4149720"/>
            <a:ext cx="201600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45fed"/>
                </a:solidFill>
                <a:latin typeface="Arial"/>
              </a:rPr>
              <a:t>الإظهار الشف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00000" y="260280"/>
            <a:ext cx="7705800" cy="1440000"/>
          </a:xfrm>
          <a:custGeom>
            <a:avLst/>
            <a:gdLst>
              <a:gd name="textAreaLeft" fmla="*/ 1087200 w 7705800"/>
              <a:gd name="textAreaRight" fmla="*/ 6618600 w 7705800"/>
              <a:gd name="textAreaTop" fmla="*/ 157680 h 1440000"/>
              <a:gd name="textAreaBottom" fmla="*/ 9097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7954"/>
                </a:moveTo>
                <a:arcTo wR="21600" hR="35552" stAng="-6559790" swAng="370838"/>
                <a:lnTo>
                  <a:pt x="3048" y="2368"/>
                </a:lnTo>
                <a:arcTo wR="21600" hR="35552" stAng="-6188952" swAng="1577904"/>
                <a:lnTo>
                  <a:pt x="18552" y="5559"/>
                </a:lnTo>
                <a:arcTo wR="21600" hR="35552" stAng="-4611048" swAng="370838"/>
                <a:lnTo>
                  <a:pt x="18900" y="12608"/>
                </a:lnTo>
                <a:lnTo>
                  <a:pt x="21600" y="21600"/>
                </a:lnTo>
                <a:lnTo>
                  <a:pt x="21600" y="21600"/>
                </a:lnTo>
                <a:arcTo wR="21600" hR="35552" stAng="-4240210" swAng="-660870"/>
                <a:lnTo>
                  <a:pt x="15852" y="14632"/>
                </a:lnTo>
                <a:arcTo wR="21600" hR="35552" stAng="-4901081" swAng="-997839"/>
                <a:lnTo>
                  <a:pt x="5748" y="17823"/>
                </a:lnTo>
                <a:arcTo wR="21600" hR="35552" stAng="-5898919" swAng="-660870"/>
                <a:lnTo>
                  <a:pt x="2700" y="12608"/>
                </a:lnTo>
                <a:close/>
              </a:path>
              <a:path fill="none" w="21600" h="21600">
                <a:moveTo>
                  <a:pt x="5748" y="14632"/>
                </a:moveTo>
                <a:arcTo wR="21600" hR="35552" stAng="-5898919" swAng="-290033"/>
                <a:lnTo>
                  <a:pt x="5748" y="17823"/>
                </a:lnTo>
              </a:path>
              <a:path fill="none" w="21600" h="21600">
                <a:moveTo>
                  <a:pt x="15852" y="14632"/>
                </a:moveTo>
                <a:arcTo wR="21600" hR="35552" stAng="-4901081" swAng="290033"/>
                <a:lnTo>
                  <a:pt x="15852" y="17823"/>
                </a:lnTo>
              </a:path>
              <a:path fill="none" w="21600" h="21600">
                <a:moveTo>
                  <a:pt x="3048" y="5559"/>
                </a:moveTo>
                <a:lnTo>
                  <a:pt x="3048" y="16014"/>
                </a:lnTo>
              </a:path>
              <a:path fill="none" w="21600" h="21600">
                <a:moveTo>
                  <a:pt x="18552" y="5559"/>
                </a:moveTo>
                <a:lnTo>
                  <a:pt x="18552" y="16014"/>
                </a:lnTo>
              </a:path>
            </a:pathLst>
          </a:cu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66cc"/>
                </a:solidFill>
                <a:latin typeface="Tahoma"/>
                <a:cs typeface="Tahoma"/>
              </a:rPr>
              <a:t>أحكام الميم الساكن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3640" y="1413000"/>
            <a:ext cx="3168720" cy="64764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Tahoma"/>
              </a:rPr>
              <a:t>ثلاثة أحكــام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340000" y="189000"/>
            <a:ext cx="4248000" cy="107928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849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96" y="21600"/>
                </a:lnTo>
                <a:arcTo wR="3600" hR="3600" stAng="10800000" swAng="5400000"/>
                <a:lnTo>
                  <a:pt x="84996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Tahoma"/>
              </a:rPr>
              <a:t>الإخفاء الشفو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1484280"/>
            <a:ext cx="8424720" cy="1800360"/>
          </a:xfrm>
          <a:custGeom>
            <a:avLst/>
            <a:gdLst>
              <a:gd name="textAreaLeft" fmla="*/ 24840 w 8424720"/>
              <a:gd name="textAreaRight" fmla="*/ 8399880 w 8424720"/>
              <a:gd name="textAreaTop" fmla="*/ 168120 h 1800360"/>
              <a:gd name="textAreaBottom" fmla="*/ 1632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10"/>
                </a:moveTo>
                <a:cubicBezTo>
                  <a:pt x="3568" y="-2568"/>
                  <a:pt x="7200" y="4588"/>
                  <a:pt x="10768" y="1010"/>
                </a:cubicBezTo>
                <a:cubicBezTo>
                  <a:pt x="14336" y="-2568"/>
                  <a:pt x="17968" y="4588"/>
                  <a:pt x="21536" y="1010"/>
                </a:cubicBezTo>
                <a:lnTo>
                  <a:pt x="21600" y="20590"/>
                </a:lnTo>
                <a:cubicBezTo>
                  <a:pt x="18032" y="24168"/>
                  <a:pt x="14400" y="17012"/>
                  <a:pt x="10832" y="20590"/>
                </a:cubicBezTo>
                <a:cubicBezTo>
                  <a:pt x="7264" y="24168"/>
                  <a:pt x="3632" y="17012"/>
                  <a:pt x="64" y="20590"/>
                </a:cubicBezTo>
                <a:close/>
              </a:path>
            </a:pathLst>
          </a:custGeom>
          <a:solidFill>
            <a:srgbClr val="99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Tahoma"/>
              </a:rPr>
              <a:t>إذا جاء بعد الميم الساكنة حرف الباء فإن حكمها   الإخفاء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cc"/>
                </a:solidFill>
                <a:latin typeface="Tahoma"/>
              </a:rPr>
              <a:t>و هو نطقها وسطًا بين الإدغام و الإظهار مع الغن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3500280"/>
            <a:ext cx="2843280" cy="1079640"/>
          </a:xfrm>
          <a:prstGeom prst="flowChartPunchedCard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لماذا سمي إخفاء شف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3429000"/>
            <a:ext cx="5040360" cy="1081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لخروج الباء و الميم من الشفت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26920" y="4797360"/>
            <a:ext cx="7848720" cy="1366920"/>
          </a:xfrm>
          <a:prstGeom prst="flowChartDocumen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إنَّ الذين يخشون ربه</a:t>
            </a:r>
            <a:r>
              <a:rPr b="0" lang="hi-IN" sz="3600" spc="-1" strike="noStrike">
                <a:solidFill>
                  <a:srgbClr val="006600"/>
                </a:solidFill>
                <a:latin typeface="Arial"/>
              </a:rPr>
              <a:t>ـم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3600" spc="-1" strike="noStrike">
                <a:solidFill>
                  <a:srgbClr val="ff3300"/>
                </a:solidFill>
                <a:latin typeface="Arial"/>
              </a:rPr>
              <a:t>بـ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الغيب لهم مغفرة وأجر كبي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340000" y="189000"/>
            <a:ext cx="4248000" cy="107928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849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96" y="21600"/>
                </a:lnTo>
                <a:arcTo wR="3600" hR="3600" stAng="10800000" swAng="5400000"/>
                <a:lnTo>
                  <a:pt x="84996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Tahoma"/>
              </a:rPr>
              <a:t>الإدغام الصغير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1484280"/>
            <a:ext cx="8424720" cy="1800360"/>
          </a:xfrm>
          <a:custGeom>
            <a:avLst/>
            <a:gdLst>
              <a:gd name="textAreaLeft" fmla="*/ 24840 w 8424720"/>
              <a:gd name="textAreaRight" fmla="*/ 8399880 w 8424720"/>
              <a:gd name="textAreaTop" fmla="*/ 168120 h 1800360"/>
              <a:gd name="textAreaBottom" fmla="*/ 1632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10"/>
                </a:moveTo>
                <a:cubicBezTo>
                  <a:pt x="3568" y="-2568"/>
                  <a:pt x="7200" y="4588"/>
                  <a:pt x="10768" y="1010"/>
                </a:cubicBezTo>
                <a:cubicBezTo>
                  <a:pt x="14336" y="-2568"/>
                  <a:pt x="17968" y="4588"/>
                  <a:pt x="21536" y="1010"/>
                </a:cubicBezTo>
                <a:lnTo>
                  <a:pt x="21600" y="20590"/>
                </a:lnTo>
                <a:cubicBezTo>
                  <a:pt x="18032" y="24168"/>
                  <a:pt x="14400" y="17012"/>
                  <a:pt x="10832" y="20590"/>
                </a:cubicBezTo>
                <a:cubicBezTo>
                  <a:pt x="7264" y="24168"/>
                  <a:pt x="3632" y="17012"/>
                  <a:pt x="64" y="20590"/>
                </a:cubicBezTo>
                <a:close/>
              </a:path>
            </a:pathLst>
          </a:custGeom>
          <a:solidFill>
            <a:srgbClr val="99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00"/>
                </a:solidFill>
                <a:latin typeface="Tahoma"/>
              </a:rPr>
              <a:t>تدغم الميم الساكنة إذا جاء بعدها حرف واحد وهو( الميم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00"/>
                </a:solidFill>
                <a:latin typeface="Tahoma"/>
              </a:rPr>
              <a:t>إدغامًا صغيرًا بحيث يصبحان حرفًا واحدًا مشددًا مع الغن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24360" y="3500280"/>
            <a:ext cx="3276720" cy="1079640"/>
          </a:xfrm>
          <a:prstGeom prst="flowChartPunchedCard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ماذا سمي إدغامًا صغيرً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3429000"/>
            <a:ext cx="5400720" cy="1081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سكون الحرف الأول و تحريك الثان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4797360"/>
            <a:ext cx="6335640" cy="1366920"/>
          </a:xfrm>
          <a:prstGeom prst="flowChartDocumen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و أسقيناكــ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</a:rPr>
              <a:t>م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3300"/>
                </a:solidFill>
                <a:latin typeface="Arial"/>
              </a:rPr>
              <a:t>م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اءً فراتًا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7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7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340000" y="189000"/>
            <a:ext cx="4248000" cy="107928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849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96" y="21600"/>
                </a:lnTo>
                <a:arcTo wR="3600" hR="3600" stAng="10800000" swAng="5400000"/>
                <a:lnTo>
                  <a:pt x="84996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Tahoma"/>
              </a:rPr>
              <a:t>الإظهار الشفو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1484280"/>
            <a:ext cx="8424720" cy="1800360"/>
          </a:xfrm>
          <a:custGeom>
            <a:avLst/>
            <a:gdLst>
              <a:gd name="textAreaLeft" fmla="*/ 24840 w 8424720"/>
              <a:gd name="textAreaRight" fmla="*/ 8399880 w 8424720"/>
              <a:gd name="textAreaTop" fmla="*/ 168120 h 1800360"/>
              <a:gd name="textAreaBottom" fmla="*/ 1632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10"/>
                </a:moveTo>
                <a:cubicBezTo>
                  <a:pt x="3568" y="-2568"/>
                  <a:pt x="7200" y="4588"/>
                  <a:pt x="10768" y="1010"/>
                </a:cubicBezTo>
                <a:cubicBezTo>
                  <a:pt x="14336" y="-2568"/>
                  <a:pt x="17968" y="4588"/>
                  <a:pt x="21536" y="1010"/>
                </a:cubicBezTo>
                <a:lnTo>
                  <a:pt x="21600" y="20590"/>
                </a:lnTo>
                <a:cubicBezTo>
                  <a:pt x="18032" y="24168"/>
                  <a:pt x="14400" y="17012"/>
                  <a:pt x="10832" y="20590"/>
                </a:cubicBezTo>
                <a:cubicBezTo>
                  <a:pt x="7264" y="24168"/>
                  <a:pt x="3632" y="17012"/>
                  <a:pt x="64" y="20590"/>
                </a:cubicBezTo>
                <a:close/>
              </a:path>
            </a:pathLst>
          </a:custGeom>
          <a:solidFill>
            <a:srgbClr val="99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Tahoma"/>
              </a:rPr>
              <a:t>إذا جاء بعد الميم الساكنة جميع حروف الهج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Tahoma"/>
              </a:rPr>
              <a:t> ( ما عدا الباء و الميم )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6360" y="3500280"/>
            <a:ext cx="2843280" cy="1079640"/>
          </a:xfrm>
          <a:prstGeom prst="flowChartPunchedCard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ماذا سمي إظهارًا شفويً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5640" y="3429000"/>
            <a:ext cx="5040360" cy="1081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أن الميم تخرج من الشفتي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16720" y="4869000"/>
            <a:ext cx="2448000" cy="1224000"/>
          </a:xfrm>
          <a:custGeom>
            <a:avLst/>
            <a:gdLst>
              <a:gd name="textAreaLeft" fmla="*/ 20160 w 2448000"/>
              <a:gd name="textAreaRight" fmla="*/ 2427840 w 2448000"/>
              <a:gd name="textAreaTop" fmla="*/ 252360 h 1224000"/>
              <a:gd name="textAreaBottom" fmla="*/ 971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</a:rPr>
              <a:t>حروفــ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5084640"/>
            <a:ext cx="5473440" cy="1440000"/>
          </a:xfrm>
          <a:prstGeom prst="flowChartPreparation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3300"/>
                </a:solidFill>
                <a:latin typeface="Arial"/>
              </a:rPr>
              <a:t>جميع حروف الهجاء ما عدا الميم و الباء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7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7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7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7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7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7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332000" y="0"/>
            <a:ext cx="6624720" cy="1628640"/>
          </a:xfrm>
          <a:custGeom>
            <a:avLst/>
            <a:gdLst>
              <a:gd name="textAreaLeft" fmla="*/ 1814760 w 6624720"/>
              <a:gd name="textAreaRight" fmla="*/ 4809960 w 6624720"/>
              <a:gd name="textAreaTop" fmla="*/ 446040 h 1628640"/>
              <a:gd name="textAreaBottom" fmla="*/ 118260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Al-Hadith1"/>
              </a:rPr>
              <a:t>المـــد  و أقسام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1484280"/>
            <a:ext cx="3384720" cy="1152720"/>
          </a:xfrm>
          <a:prstGeom prst="cloudCallout">
            <a:avLst>
              <a:gd name="adj1" fmla="val 47185"/>
              <a:gd name="adj2" fmla="val 27134"/>
            </a:avLst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c45fed"/>
                </a:solidFill>
                <a:latin typeface="Arial"/>
              </a:rPr>
              <a:t>ما هو المد 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1773360"/>
            <a:ext cx="4464000" cy="863640"/>
          </a:xfrm>
          <a:prstGeom prst="flowChartDocumen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c45fed"/>
                </a:solidFill>
                <a:latin typeface="Arial"/>
              </a:rPr>
              <a:t>إطالة الصوت بحرف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63640" y="3284640"/>
            <a:ext cx="4969080" cy="1296720"/>
          </a:xfrm>
          <a:prstGeom prst="cloudCallout">
            <a:avLst>
              <a:gd name="adj1" fmla="val 64666"/>
              <a:gd name="adj2" fmla="val 15115"/>
            </a:avLst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c45fed"/>
                </a:solidFill>
                <a:latin typeface="Arial"/>
              </a:rPr>
              <a:t>ما هي حروف المد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7280" y="5229360"/>
            <a:ext cx="144144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c45fed"/>
                </a:solidFill>
                <a:latin typeface="Arial"/>
              </a:rPr>
              <a:t>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16000" y="5300640"/>
            <a:ext cx="1366920" cy="1009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45fed"/>
                </a:solidFill>
                <a:latin typeface="Arial"/>
              </a:rPr>
              <a:t>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04000" y="5157720"/>
            <a:ext cx="1440000" cy="1150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c45fed"/>
                </a:solidFill>
                <a:latin typeface="Arial"/>
              </a:rPr>
              <a:t>ا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84720" y="4221000"/>
            <a:ext cx="1079640" cy="936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859280" y="4365720"/>
            <a:ext cx="21744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268360" y="4508640"/>
            <a:ext cx="144000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8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b7"/>
                </a:solidFill>
                <a:latin typeface="Arial Black"/>
                <a:cs typeface="Al-Hadith1"/>
              </a:rPr>
              <a:t>دورة مبسطة </a:t>
            </a:r>
            <a:br>
              <a:rPr sz="8000"/>
            </a:br>
            <a:r>
              <a:rPr b="1" lang="hi-IN" sz="8000" spc="-1" strike="noStrike">
                <a:solidFill>
                  <a:srgbClr val="ffffb7"/>
                </a:solidFill>
                <a:latin typeface="Arial Black"/>
                <a:cs typeface="Al-Hadith1"/>
              </a:rPr>
              <a:t>في علم التجويد</a:t>
            </a: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3330360"/>
            <a:ext cx="800748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332000" y="0"/>
            <a:ext cx="6624720" cy="1628640"/>
          </a:xfrm>
          <a:custGeom>
            <a:avLst/>
            <a:gdLst>
              <a:gd name="textAreaLeft" fmla="*/ 1608840 w 6624720"/>
              <a:gd name="textAreaRight" fmla="*/ 5015880 w 6624720"/>
              <a:gd name="textAreaTop" fmla="*/ 395280 h 1628640"/>
              <a:gd name="textAreaBottom" fmla="*/ 123336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517" y="13743"/>
                </a:lnTo>
                <a:lnTo>
                  <a:pt x="3163" y="18437"/>
                </a:lnTo>
                <a:lnTo>
                  <a:pt x="7731" y="18031"/>
                </a:lnTo>
                <a:lnTo>
                  <a:pt x="10800" y="21600"/>
                </a:lnTo>
                <a:lnTo>
                  <a:pt x="13743" y="18083"/>
                </a:lnTo>
                <a:lnTo>
                  <a:pt x="18437" y="18437"/>
                </a:lnTo>
                <a:lnTo>
                  <a:pt x="18031" y="13869"/>
                </a:lnTo>
                <a:lnTo>
                  <a:pt x="21600" y="10800"/>
                </a:lnTo>
                <a:lnTo>
                  <a:pt x="18083" y="7857"/>
                </a:lnTo>
                <a:lnTo>
                  <a:pt x="18437" y="3163"/>
                </a:lnTo>
                <a:lnTo>
                  <a:pt x="13869" y="3569"/>
                </a:lnTo>
                <a:lnTo>
                  <a:pt x="10800" y="0"/>
                </a:lnTo>
                <a:lnTo>
                  <a:pt x="7857" y="3517"/>
                </a:lnTo>
                <a:lnTo>
                  <a:pt x="3163" y="3163"/>
                </a:lnTo>
                <a:lnTo>
                  <a:pt x="3569" y="7731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  <a:cs typeface="Hesham Ghorn Italic"/>
              </a:rPr>
              <a:t>أقســـــــام المد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80000" y="1413000"/>
            <a:ext cx="100800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059280" y="1413000"/>
            <a:ext cx="50616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19640" y="2205000"/>
            <a:ext cx="3924360" cy="3095640"/>
          </a:xfrm>
          <a:custGeom>
            <a:avLst/>
            <a:gdLst>
              <a:gd name="textAreaLeft" fmla="*/ 939240 w 3924360"/>
              <a:gd name="textAreaRight" fmla="*/ 2985120 w 3924360"/>
              <a:gd name="textAreaTop" fmla="*/ 740880 h 3095640"/>
              <a:gd name="textAreaBottom" fmla="*/ 235476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417" y="13783"/>
                </a:lnTo>
                <a:lnTo>
                  <a:pt x="3163" y="18437"/>
                </a:lnTo>
                <a:lnTo>
                  <a:pt x="7689" y="18130"/>
                </a:lnTo>
                <a:lnTo>
                  <a:pt x="10800" y="21600"/>
                </a:lnTo>
                <a:lnTo>
                  <a:pt x="13783" y="18183"/>
                </a:lnTo>
                <a:lnTo>
                  <a:pt x="18437" y="18437"/>
                </a:lnTo>
                <a:lnTo>
                  <a:pt x="18130" y="13911"/>
                </a:lnTo>
                <a:lnTo>
                  <a:pt x="21600" y="10800"/>
                </a:lnTo>
                <a:lnTo>
                  <a:pt x="18183" y="7817"/>
                </a:lnTo>
                <a:lnTo>
                  <a:pt x="18437" y="3163"/>
                </a:lnTo>
                <a:lnTo>
                  <a:pt x="13911" y="3470"/>
                </a:lnTo>
                <a:lnTo>
                  <a:pt x="10800" y="0"/>
                </a:lnTo>
                <a:lnTo>
                  <a:pt x="7817" y="3417"/>
                </a:lnTo>
                <a:lnTo>
                  <a:pt x="3163" y="3163"/>
                </a:lnTo>
                <a:lnTo>
                  <a:pt x="3470" y="7689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المد الطبيعي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2205000"/>
            <a:ext cx="4032360" cy="3095640"/>
          </a:xfrm>
          <a:custGeom>
            <a:avLst/>
            <a:gdLst>
              <a:gd name="textAreaLeft" fmla="*/ 964800 w 4032360"/>
              <a:gd name="textAreaRight" fmla="*/ 3067560 w 4032360"/>
              <a:gd name="textAreaTop" fmla="*/ 740880 h 3095640"/>
              <a:gd name="textAreaBottom" fmla="*/ 235476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417" y="13783"/>
                </a:lnTo>
                <a:lnTo>
                  <a:pt x="3163" y="18437"/>
                </a:lnTo>
                <a:lnTo>
                  <a:pt x="7689" y="18130"/>
                </a:lnTo>
                <a:lnTo>
                  <a:pt x="10800" y="21600"/>
                </a:lnTo>
                <a:lnTo>
                  <a:pt x="13783" y="18183"/>
                </a:lnTo>
                <a:lnTo>
                  <a:pt x="18437" y="18437"/>
                </a:lnTo>
                <a:lnTo>
                  <a:pt x="18130" y="13911"/>
                </a:lnTo>
                <a:lnTo>
                  <a:pt x="21600" y="10800"/>
                </a:lnTo>
                <a:lnTo>
                  <a:pt x="18183" y="7817"/>
                </a:lnTo>
                <a:lnTo>
                  <a:pt x="18437" y="3163"/>
                </a:lnTo>
                <a:lnTo>
                  <a:pt x="13911" y="3470"/>
                </a:lnTo>
                <a:lnTo>
                  <a:pt x="10800" y="0"/>
                </a:lnTo>
                <a:lnTo>
                  <a:pt x="7817" y="3417"/>
                </a:lnTo>
                <a:lnTo>
                  <a:pt x="3163" y="3163"/>
                </a:lnTo>
                <a:lnTo>
                  <a:pt x="3470" y="7689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المد الفرعي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556000" y="260280"/>
            <a:ext cx="4392360" cy="1008000"/>
          </a:xfrm>
          <a:prstGeom prst="flowChartAlternateProcess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45fed"/>
                </a:solidFill>
                <a:latin typeface="Arial"/>
                <a:cs typeface="Al-Hadith1"/>
              </a:rPr>
              <a:t>المـــد الطبيعي</a:t>
            </a:r>
            <a:r>
              <a:rPr b="0" lang="ar-SA" sz="4800" spc="-1" strike="noStrike">
                <a:solidFill>
                  <a:srgbClr val="ffffff"/>
                </a:solidFill>
                <a:latin typeface="Arial"/>
                <a:ea typeface="Al-Hadith1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43640" y="1413000"/>
            <a:ext cx="2449440" cy="792000"/>
          </a:xfrm>
          <a:prstGeom prst="flowChartPreparation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429080" y="2637000"/>
            <a:ext cx="4535640" cy="863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يكون المد الطبيعي ثابتًا في الوصل و الوق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84720" y="4005360"/>
            <a:ext cx="468000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يكون المد الطبيعي ثابتًا في الوقف دون الوص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11640" y="5661000"/>
            <a:ext cx="478800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يكون المد الطبيعي ثابتًا في الوصل دون الوق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1557360"/>
            <a:ext cx="575928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هو الذي لا يتوقف على سبب من همز أو سكو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و يمد بمقدار حركتين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2637000"/>
            <a:ext cx="3743280" cy="93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3300"/>
                </a:solidFill>
                <a:latin typeface="Arial"/>
              </a:rPr>
              <a:t>سلا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هي حتى مطلع الفج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3860640"/>
            <a:ext cx="3743280" cy="1081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 وجدك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</a:rPr>
              <a:t>ضالاً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فهد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0920" y="5589720"/>
            <a:ext cx="3743280" cy="1079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فسبح بحمد ربك و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استغفر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619280" y="0"/>
            <a:ext cx="6121440" cy="1628640"/>
          </a:xfrm>
          <a:custGeom>
            <a:avLst/>
            <a:gdLst>
              <a:gd name="textAreaLeft" fmla="*/ 1340280 w 6121440"/>
              <a:gd name="textAreaRight" fmla="*/ 4781160 w 6121440"/>
              <a:gd name="textAreaTop" fmla="*/ 356400 h 1628640"/>
              <a:gd name="textAreaBottom" fmla="*/ 127224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0" y="14016"/>
                </a:lnTo>
                <a:lnTo>
                  <a:pt x="3163" y="18437"/>
                </a:lnTo>
                <a:lnTo>
                  <a:pt x="7446" y="18703"/>
                </a:lnTo>
                <a:lnTo>
                  <a:pt x="10800" y="21600"/>
                </a:lnTo>
                <a:lnTo>
                  <a:pt x="14016" y="18760"/>
                </a:lnTo>
                <a:lnTo>
                  <a:pt x="18437" y="18437"/>
                </a:lnTo>
                <a:lnTo>
                  <a:pt x="18703" y="14154"/>
                </a:lnTo>
                <a:lnTo>
                  <a:pt x="21600" y="10800"/>
                </a:lnTo>
                <a:lnTo>
                  <a:pt x="18760" y="7584"/>
                </a:lnTo>
                <a:lnTo>
                  <a:pt x="18437" y="3163"/>
                </a:lnTo>
                <a:lnTo>
                  <a:pt x="14154" y="2897"/>
                </a:lnTo>
                <a:lnTo>
                  <a:pt x="10800" y="0"/>
                </a:lnTo>
                <a:lnTo>
                  <a:pt x="7584" y="2840"/>
                </a:lnTo>
                <a:lnTo>
                  <a:pt x="3163" y="3163"/>
                </a:lnTo>
                <a:lnTo>
                  <a:pt x="2897" y="744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6600cc"/>
                </a:solidFill>
                <a:latin typeface="Arial"/>
                <a:cs typeface="Hesham Bold"/>
              </a:rPr>
              <a:t>أقســام المد الفرعي</a:t>
            </a:r>
            <a:r>
              <a:rPr b="0" lang="ar-SA" sz="7200" spc="-1" strike="noStrike">
                <a:solidFill>
                  <a:srgbClr val="ffffff"/>
                </a:solidFill>
                <a:latin typeface="Arial"/>
                <a:ea typeface="Hesham Ghorn Italic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48360" y="1773360"/>
            <a:ext cx="2195640" cy="115236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0880 h 1152360"/>
              <a:gd name="textAreaBottom" fmla="*/ 951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المد المتصل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56000" y="5084640"/>
            <a:ext cx="2195280" cy="1152720"/>
          </a:xfrm>
          <a:custGeom>
            <a:avLst/>
            <a:gdLst>
              <a:gd name="textAreaLeft" fmla="*/ 383040 w 2195280"/>
              <a:gd name="textAreaRight" fmla="*/ 1812240 w 2195280"/>
              <a:gd name="textAreaTop" fmla="*/ 201240 h 1152720"/>
              <a:gd name="textAreaBottom" fmla="*/ 951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المد العارض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للسكون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00720" y="3284640"/>
            <a:ext cx="2195640" cy="115236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0880 h 1152360"/>
              <a:gd name="textAreaBottom" fmla="*/ 951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المد المنفص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1844640"/>
            <a:ext cx="2195640" cy="115272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1240 h 1152720"/>
              <a:gd name="textAreaBottom" fmla="*/ 951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المد اللاز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00720" y="4869000"/>
            <a:ext cx="2195640" cy="115236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0880 h 1152360"/>
              <a:gd name="textAreaBottom" fmla="*/ 951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مد البدل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7280" y="3500280"/>
            <a:ext cx="2195640" cy="115272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1240 h 1152720"/>
              <a:gd name="textAreaBottom" fmla="*/ 951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مد الل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51640" y="1413000"/>
            <a:ext cx="136836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64000" y="1628640"/>
            <a:ext cx="1440000" cy="1729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9280" y="1700280"/>
            <a:ext cx="1368360" cy="3024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995280" y="1700280"/>
            <a:ext cx="505080" cy="3384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842920" y="1557360"/>
            <a:ext cx="1152360" cy="1942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340000" y="1484280"/>
            <a:ext cx="1295280" cy="72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4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4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4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4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4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268360" y="144360"/>
            <a:ext cx="4176720" cy="1413000"/>
          </a:xfrm>
          <a:custGeom>
            <a:avLst/>
            <a:gdLst>
              <a:gd name="textAreaLeft" fmla="*/ 862200 w 4176720"/>
              <a:gd name="textAreaRight" fmla="*/ 3314520 w 4176720"/>
              <a:gd name="textAreaTop" fmla="*/ 291600 h 1413000"/>
              <a:gd name="textAreaBottom" fmla="*/ 1121400 h 14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87" y="14159"/>
                </a:lnTo>
                <a:lnTo>
                  <a:pt x="3163" y="18437"/>
                </a:lnTo>
                <a:lnTo>
                  <a:pt x="7297" y="19053"/>
                </a:lnTo>
                <a:lnTo>
                  <a:pt x="10800" y="21600"/>
                </a:lnTo>
                <a:lnTo>
                  <a:pt x="14159" y="19113"/>
                </a:lnTo>
                <a:lnTo>
                  <a:pt x="18437" y="18437"/>
                </a:lnTo>
                <a:lnTo>
                  <a:pt x="19053" y="14303"/>
                </a:lnTo>
                <a:lnTo>
                  <a:pt x="21600" y="10800"/>
                </a:lnTo>
                <a:lnTo>
                  <a:pt x="19113" y="7441"/>
                </a:lnTo>
                <a:lnTo>
                  <a:pt x="18437" y="3163"/>
                </a:lnTo>
                <a:lnTo>
                  <a:pt x="14303" y="2547"/>
                </a:lnTo>
                <a:lnTo>
                  <a:pt x="10800" y="0"/>
                </a:lnTo>
                <a:lnTo>
                  <a:pt x="7441" y="2487"/>
                </a:lnTo>
                <a:lnTo>
                  <a:pt x="3163" y="3163"/>
                </a:lnTo>
                <a:lnTo>
                  <a:pt x="2547" y="729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77400"/>
              </a:gs>
              <a:gs pos="50000">
                <a:srgbClr val="99cc00"/>
              </a:gs>
              <a:gs pos="100000">
                <a:srgbClr val="5774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Arial"/>
              </a:rPr>
              <a:t>المد المتصل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77080" y="162864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2720" y="1628640"/>
            <a:ext cx="6120000" cy="863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00cc"/>
                </a:solidFill>
                <a:latin typeface="Arial"/>
                <a:cs typeface="Akhbar MT"/>
              </a:rPr>
              <a:t>هو أن تأتي الهمزة بعد حرف المد في كلمة واحدة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esham Bol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72360" y="2924280"/>
            <a:ext cx="1800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63640" y="2708280"/>
            <a:ext cx="4103640" cy="93672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DecoType Naskh Variants"/>
              </a:rPr>
              <a:t>إذا السم</a:t>
            </a:r>
            <a:r>
              <a:rPr b="1" lang="hi-IN" sz="4400" spc="-1" strike="noStrike">
                <a:solidFill>
                  <a:srgbClr val="ff0000"/>
                </a:solidFill>
                <a:latin typeface="Arial"/>
                <a:cs typeface="DecoType Naskh Variants"/>
              </a:rPr>
              <a:t>ـا</a:t>
            </a: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DecoType Naskh Variants"/>
              </a:rPr>
              <a:t>ء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DecoType Naskh Variants"/>
              </a:rPr>
              <a:t>  انفطرت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CS  Morg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59640" y="378936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5300640"/>
            <a:ext cx="6048360" cy="1297080"/>
          </a:xfrm>
          <a:prstGeom prst="wedgeEllipseCallout">
            <a:avLst>
              <a:gd name="adj1" fmla="val 48768"/>
              <a:gd name="adj2" fmla="val 10833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khbar MT"/>
              </a:rPr>
              <a:t>يمد بمقدار أربع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khbar MT"/>
              </a:rPr>
              <a:t>أو خمس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35280" y="3933720"/>
            <a:ext cx="3457440" cy="8654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khbar MT"/>
              </a:rPr>
              <a:t>وجوب المـ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7" dur="2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2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484360" y="189000"/>
            <a:ext cx="5545080" cy="1152360"/>
          </a:xfrm>
          <a:custGeom>
            <a:avLst/>
            <a:gdLst>
              <a:gd name="textAreaLeft" fmla="*/ 811800 w 5545080"/>
              <a:gd name="textAreaRight" fmla="*/ 4733280 w 5545080"/>
              <a:gd name="textAreaTop" fmla="*/ 168480 h 1152360"/>
              <a:gd name="textAreaBottom" fmla="*/ 9838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6" y="14846"/>
                </a:lnTo>
                <a:lnTo>
                  <a:pt x="3163" y="18437"/>
                </a:lnTo>
                <a:lnTo>
                  <a:pt x="6580" y="20741"/>
                </a:lnTo>
                <a:lnTo>
                  <a:pt x="10800" y="21600"/>
                </a:lnTo>
                <a:lnTo>
                  <a:pt x="14846" y="20814"/>
                </a:lnTo>
                <a:lnTo>
                  <a:pt x="18437" y="18437"/>
                </a:lnTo>
                <a:lnTo>
                  <a:pt x="20741" y="15020"/>
                </a:lnTo>
                <a:lnTo>
                  <a:pt x="21600" y="10800"/>
                </a:lnTo>
                <a:lnTo>
                  <a:pt x="20814" y="6754"/>
                </a:lnTo>
                <a:lnTo>
                  <a:pt x="18437" y="3163"/>
                </a:lnTo>
                <a:lnTo>
                  <a:pt x="15020" y="859"/>
                </a:lnTo>
                <a:lnTo>
                  <a:pt x="10800" y="0"/>
                </a:lnTo>
                <a:lnTo>
                  <a:pt x="6754" y="786"/>
                </a:lnTo>
                <a:lnTo>
                  <a:pt x="3163" y="3163"/>
                </a:lnTo>
                <a:lnTo>
                  <a:pt x="859" y="658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7eef7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Arial"/>
              </a:rPr>
              <a:t>المد المنفصل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77080" y="162864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0920" y="1339920"/>
            <a:ext cx="6119640" cy="1225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cc"/>
                </a:solidFill>
                <a:latin typeface="Arial"/>
              </a:rPr>
              <a:t>هو أن يأتي حرف المد في آخر الكلم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cc"/>
                </a:solidFill>
                <a:latin typeface="Arial"/>
              </a:rPr>
              <a:t>و الهمزة  في  أول الكلمة التي تلي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372360" y="2924280"/>
            <a:ext cx="1800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63640" y="2708280"/>
            <a:ext cx="4103640" cy="93672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ل</a:t>
            </a: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آ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ea typeface="Akhbar MT"/>
              </a:rPr>
              <a:t> </a:t>
            </a: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أ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عبد ما تعبدون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59640" y="378936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835280" y="3933720"/>
            <a:ext cx="3457440" cy="8654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khbar MT"/>
              </a:rPr>
              <a:t>جواز  المـ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5300640"/>
            <a:ext cx="6048360" cy="1297080"/>
          </a:xfrm>
          <a:prstGeom prst="wedgeEllipseCallout">
            <a:avLst>
              <a:gd name="adj1" fmla="val 48768"/>
              <a:gd name="adj2" fmla="val 10833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يمد بمقدار أربع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أو خمس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4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651640" y="0"/>
            <a:ext cx="3384360" cy="1125360"/>
          </a:xfrm>
          <a:custGeom>
            <a:avLst/>
            <a:gdLst>
              <a:gd name="textAreaLeft" fmla="*/ 684000 w 3384360"/>
              <a:gd name="textAreaRight" fmla="*/ 2700360 w 3384360"/>
              <a:gd name="textAreaTop" fmla="*/ 227520 h 1125360"/>
              <a:gd name="textAreaBottom" fmla="*/ 89784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64" y="14208"/>
                </a:lnTo>
                <a:lnTo>
                  <a:pt x="3163" y="18437"/>
                </a:lnTo>
                <a:lnTo>
                  <a:pt x="7245" y="19175"/>
                </a:lnTo>
                <a:lnTo>
                  <a:pt x="10800" y="21600"/>
                </a:lnTo>
                <a:lnTo>
                  <a:pt x="14208" y="19236"/>
                </a:lnTo>
                <a:lnTo>
                  <a:pt x="18437" y="18437"/>
                </a:lnTo>
                <a:lnTo>
                  <a:pt x="19175" y="14355"/>
                </a:lnTo>
                <a:lnTo>
                  <a:pt x="21600" y="10800"/>
                </a:lnTo>
                <a:lnTo>
                  <a:pt x="19236" y="7392"/>
                </a:lnTo>
                <a:lnTo>
                  <a:pt x="18437" y="3163"/>
                </a:lnTo>
                <a:lnTo>
                  <a:pt x="14355" y="2425"/>
                </a:lnTo>
                <a:lnTo>
                  <a:pt x="10800" y="0"/>
                </a:lnTo>
                <a:lnTo>
                  <a:pt x="7392" y="2364"/>
                </a:lnTo>
                <a:lnTo>
                  <a:pt x="3163" y="3163"/>
                </a:lnTo>
                <a:lnTo>
                  <a:pt x="2425" y="72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77400"/>
              </a:gs>
              <a:gs pos="50000">
                <a:srgbClr val="99cc00"/>
              </a:gs>
              <a:gs pos="100000">
                <a:srgbClr val="5774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3300"/>
                </a:solidFill>
                <a:latin typeface="Arial"/>
              </a:rPr>
              <a:t>مد البدل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48360" y="1268280"/>
            <a:ext cx="2160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43640" y="2349360"/>
            <a:ext cx="1800360" cy="1079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59640" y="4221000"/>
            <a:ext cx="2089080" cy="93528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32720" y="573408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5634000"/>
            <a:ext cx="4608360" cy="963720"/>
          </a:xfrm>
          <a:prstGeom prst="wedgeEllipseCallout">
            <a:avLst>
              <a:gd name="adj1" fmla="val 72837"/>
              <a:gd name="adj2" fmla="val 14087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khbar MT"/>
              </a:rPr>
              <a:t>يمد حركت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620640"/>
            <a:ext cx="6553080" cy="1944720"/>
          </a:xfrm>
          <a:custGeom>
            <a:avLst/>
            <a:gdLst>
              <a:gd name="textAreaLeft" fmla="*/ 0 w 6553080"/>
              <a:gd name="textAreaRight" fmla="*/ 6553440 w 655308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37" y="0"/>
                </a:lnTo>
                <a:lnTo>
                  <a:pt x="21600" y="10800"/>
                </a:lnTo>
                <a:lnTo>
                  <a:pt x="179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ما كان أصله همزتين فأبدلت الثانية بحرف مد في كلمة واح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و الأصل في الكلمة التي تشتمل على مد بدل أن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khbar MT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تبدأ بهمزت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فأبدلت الهمزة الثانية من جنس حركة الهمزة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  <a:ea typeface="AL-Hor Outlin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637000"/>
            <a:ext cx="7524720" cy="1871640"/>
          </a:xfrm>
          <a:prstGeom prst="cloudCallout">
            <a:avLst>
              <a:gd name="adj1" fmla="val 50273"/>
              <a:gd name="adj2" fmla="val -65435"/>
            </a:avLst>
          </a:prstGeom>
          <a:gradFill rotWithShape="0">
            <a:gsLst>
              <a:gs pos="0">
                <a:srgbClr val="1e7a99"/>
              </a:gs>
              <a:gs pos="50000">
                <a:srgbClr val="33ccff"/>
              </a:gs>
              <a:gs pos="100000">
                <a:srgbClr val="1e7a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800000"/>
                </a:solidFill>
                <a:latin typeface="Arial"/>
                <a:cs typeface="Akhbar MT"/>
              </a:rPr>
              <a:t>قال تعالى  ( فأمّا من </a:t>
            </a:r>
            <a:r>
              <a:rPr b="1" lang="hi-IN" sz="2800" spc="-1" strike="noStrike">
                <a:solidFill>
                  <a:srgbClr val="ff3300"/>
                </a:solidFill>
                <a:latin typeface="Arial"/>
                <a:cs typeface="Akhbar MT"/>
              </a:rPr>
              <a:t>أُوتي </a:t>
            </a:r>
            <a:r>
              <a:rPr b="1" lang="hi-IN" sz="2800" spc="-1" strike="noStrike">
                <a:solidFill>
                  <a:srgbClr val="800000"/>
                </a:solidFill>
                <a:latin typeface="Arial"/>
                <a:cs typeface="Akhbar MT"/>
              </a:rPr>
              <a:t>كتابه بيمينه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800000"/>
                </a:solidFill>
                <a:latin typeface="Arial"/>
                <a:cs typeface="Akhbar MT"/>
              </a:rPr>
              <a:t>أصل الكلمة (</a:t>
            </a:r>
            <a:r>
              <a:rPr b="1" lang="hi-IN" sz="2800" spc="-1" strike="noStrike">
                <a:solidFill>
                  <a:srgbClr val="ff3300"/>
                </a:solidFill>
                <a:latin typeface="Arial"/>
                <a:cs typeface="Akhbar MT"/>
              </a:rPr>
              <a:t>أُأُتي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khbar MT"/>
              </a:rPr>
              <a:t> )فأبدلت الهمزة الثانية بحرف المد الواو لأنه من جنس الهمزة و هي الض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58920" y="4653000"/>
            <a:ext cx="3672000" cy="792000"/>
          </a:xfrm>
          <a:prstGeom prst="wedgeEllipseCallout">
            <a:avLst>
              <a:gd name="adj1" fmla="val 96305"/>
              <a:gd name="adj2" fmla="val -16532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khbar MT"/>
              </a:rPr>
              <a:t>جواز المد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8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6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4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619280" y="144360"/>
            <a:ext cx="5689440" cy="1123920"/>
          </a:xfrm>
          <a:custGeom>
            <a:avLst/>
            <a:gdLst>
              <a:gd name="textAreaLeft" fmla="*/ 931320 w 5689440"/>
              <a:gd name="textAreaRight" fmla="*/ 4758120 w 5689440"/>
              <a:gd name="textAreaTop" fmla="*/ 183960 h 1123920"/>
              <a:gd name="textAreaBottom" fmla="*/ 939960 h 112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275" y="14648"/>
                </a:lnTo>
                <a:lnTo>
                  <a:pt x="3163" y="18437"/>
                </a:lnTo>
                <a:lnTo>
                  <a:pt x="6786" y="20256"/>
                </a:lnTo>
                <a:lnTo>
                  <a:pt x="10800" y="21600"/>
                </a:lnTo>
                <a:lnTo>
                  <a:pt x="14648" y="20325"/>
                </a:lnTo>
                <a:lnTo>
                  <a:pt x="18437" y="18437"/>
                </a:lnTo>
                <a:lnTo>
                  <a:pt x="20256" y="14814"/>
                </a:lnTo>
                <a:lnTo>
                  <a:pt x="21600" y="10800"/>
                </a:lnTo>
                <a:lnTo>
                  <a:pt x="20325" y="6952"/>
                </a:lnTo>
                <a:lnTo>
                  <a:pt x="18437" y="3163"/>
                </a:lnTo>
                <a:lnTo>
                  <a:pt x="14814" y="1344"/>
                </a:lnTo>
                <a:lnTo>
                  <a:pt x="10800" y="0"/>
                </a:lnTo>
                <a:lnTo>
                  <a:pt x="6952" y="1275"/>
                </a:lnTo>
                <a:lnTo>
                  <a:pt x="3163" y="3163"/>
                </a:lnTo>
                <a:lnTo>
                  <a:pt x="1344" y="678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1d1d1"/>
              </a:gs>
              <a:gs pos="50000">
                <a:srgbClr val="dddddd"/>
              </a:gs>
              <a:gs pos="100000">
                <a:srgbClr val="d1d1d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111111"/>
                </a:solidFill>
                <a:latin typeface="Arial"/>
              </a:rPr>
              <a:t>المد العارض للسكو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77080" y="162864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9640" y="1413000"/>
            <a:ext cx="6120000" cy="1152360"/>
          </a:xfrm>
          <a:prstGeom prst="ellipse">
            <a:avLst/>
          </a:prstGeom>
          <a:gradFill rotWithShape="0">
            <a:gsLst>
              <a:gs pos="0">
                <a:srgbClr val="66ff33"/>
              </a:gs>
              <a:gs pos="50000">
                <a:srgbClr val="fefefe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Arial"/>
                <a:cs typeface="Arabic Transparent"/>
              </a:rPr>
              <a:t>هو أن يأتي بعد حرف المد حرف متحر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Arial"/>
                <a:ea typeface="Arabic Transparent"/>
              </a:rPr>
              <a:t> ثم يسكن عند الوقف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Arabic Transparen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72360" y="2924280"/>
            <a:ext cx="1800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63640" y="2708280"/>
            <a:ext cx="4103640" cy="93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قل أعوذ برب النـ</a:t>
            </a:r>
            <a:r>
              <a:rPr b="1" lang="ar-SA" sz="4400" spc="-1" strike="noStrike">
                <a:solidFill>
                  <a:srgbClr val="ff3300"/>
                </a:solidFill>
                <a:latin typeface="Arial"/>
              </a:rPr>
              <a:t>ا</a:t>
            </a:r>
            <a:r>
              <a:rPr b="1" lang="ar-SA" sz="4400" spc="-1" strike="noStrike">
                <a:solidFill>
                  <a:srgbClr val="6600cc"/>
                </a:solidFill>
                <a:latin typeface="Arial"/>
              </a:rPr>
              <a:t>سِ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59640" y="378936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71640" y="3933720"/>
            <a:ext cx="5184720" cy="10080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khbar MT"/>
              </a:rPr>
              <a:t>وجوب المـ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8360" y="5157720"/>
            <a:ext cx="6048360" cy="1700280"/>
          </a:xfrm>
          <a:prstGeom prst="wedgeEllipseCallout">
            <a:avLst>
              <a:gd name="adj1" fmla="val 48768"/>
              <a:gd name="adj2" fmla="val 481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Arial"/>
                <a:cs typeface="Akhbar MT"/>
              </a:rPr>
              <a:t>يمد بمقدار حركتين أو أرب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Arial"/>
                <a:ea typeface="Akhbar MT"/>
              </a:rPr>
              <a:t> أو خمس حركات</a:t>
            </a:r>
            <a:r>
              <a:rPr b="1" lang="ar-SA" sz="3200" spc="-1" strike="noStrike">
                <a:solidFill>
                  <a:srgbClr val="800000"/>
                </a:solidFill>
                <a:latin typeface="Arial"/>
                <a:ea typeface="Akhbar M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4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4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987640" y="144360"/>
            <a:ext cx="5184720" cy="836640"/>
          </a:xfrm>
          <a:custGeom>
            <a:avLst/>
            <a:gdLst>
              <a:gd name="textAreaLeft" fmla="*/ 759240 w 5184720"/>
              <a:gd name="textAreaRight" fmla="*/ 4425480 w 5184720"/>
              <a:gd name="textAreaTop" fmla="*/ 122400 h 836640"/>
              <a:gd name="textAreaBottom" fmla="*/ 714240 h 83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6" y="14846"/>
                </a:lnTo>
                <a:lnTo>
                  <a:pt x="3163" y="18437"/>
                </a:lnTo>
                <a:lnTo>
                  <a:pt x="6580" y="20741"/>
                </a:lnTo>
                <a:lnTo>
                  <a:pt x="10800" y="21600"/>
                </a:lnTo>
                <a:lnTo>
                  <a:pt x="14846" y="20814"/>
                </a:lnTo>
                <a:lnTo>
                  <a:pt x="18437" y="18437"/>
                </a:lnTo>
                <a:lnTo>
                  <a:pt x="20741" y="15020"/>
                </a:lnTo>
                <a:lnTo>
                  <a:pt x="21600" y="10800"/>
                </a:lnTo>
                <a:lnTo>
                  <a:pt x="20814" y="6754"/>
                </a:lnTo>
                <a:lnTo>
                  <a:pt x="18437" y="3163"/>
                </a:lnTo>
                <a:lnTo>
                  <a:pt x="15020" y="859"/>
                </a:lnTo>
                <a:lnTo>
                  <a:pt x="10800" y="0"/>
                </a:lnTo>
                <a:lnTo>
                  <a:pt x="6754" y="786"/>
                </a:lnTo>
                <a:lnTo>
                  <a:pt x="3163" y="3163"/>
                </a:lnTo>
                <a:lnTo>
                  <a:pt x="859" y="658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ddd5c"/>
              </a:gs>
              <a:gs pos="50000">
                <a:srgbClr val="99cc00"/>
              </a:gs>
              <a:gs pos="100000">
                <a:srgbClr val="bddd5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6600"/>
                </a:solidFill>
                <a:latin typeface="Arial"/>
                <a:cs typeface="Al-Hadith1"/>
              </a:rPr>
              <a:t>مد اللين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77080" y="134136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تعريف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2720" y="1268280"/>
            <a:ext cx="6120000" cy="863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99"/>
                </a:solidFill>
                <a:latin typeface="Arial"/>
                <a:cs typeface="Akhbar MT"/>
              </a:rPr>
              <a:t>هو أن يقع بعد حرفي اللين سكون عارض لأجل الوق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020000" y="2276640"/>
            <a:ext cx="1800000" cy="863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6600cc"/>
                </a:solidFill>
                <a:latin typeface="Arial"/>
                <a:cs typeface="Akhbar MT"/>
              </a:rPr>
              <a:t>حرفا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26920" y="2349360"/>
            <a:ext cx="5761080" cy="93672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cc"/>
                </a:solidFill>
                <a:latin typeface="Arial"/>
                <a:ea typeface="Akhbar MT"/>
              </a:rPr>
              <a:t>( الواو و الياء ) الساكنتان  المفتوح ما قبلهم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32360" y="3357720"/>
            <a:ext cx="3887640" cy="1081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0099"/>
                </a:solidFill>
                <a:latin typeface="Arial"/>
                <a:cs typeface="Akhbar MT"/>
              </a:rPr>
              <a:t>و ءامنهم من 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خَوف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  <a:ea typeface="Akhbar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600cc"/>
                </a:solidFill>
                <a:latin typeface="Arial"/>
                <a:cs typeface="Akhbar MT"/>
              </a:rPr>
              <a:t>مقدار مد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4000" y="5589720"/>
            <a:ext cx="6192720" cy="1008000"/>
          </a:xfrm>
          <a:prstGeom prst="wedgeEllipseCallout">
            <a:avLst>
              <a:gd name="adj1" fmla="val 48796"/>
              <a:gd name="adj2" fmla="val -393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Akhbar MT"/>
              </a:rPr>
              <a:t>يمد حركتان أو أربع أو ست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6920" y="3429000"/>
            <a:ext cx="3745080" cy="10098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11111"/>
                </a:solidFill>
                <a:latin typeface="Arial"/>
                <a:cs typeface="Akhbar MT"/>
              </a:rPr>
              <a:t>فليعبدوا رب هذا 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البَي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92360" y="4653000"/>
            <a:ext cx="5975280" cy="7207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7eefa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900cc"/>
                </a:solidFill>
                <a:latin typeface="Arial"/>
                <a:cs typeface="Tahoma"/>
              </a:rPr>
              <a:t>حكم مده : جواز الم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89" dur="indefinite" restart="never" nodeType="tmRoot">
          <p:childTnLst>
            <p:seq>
              <p:cTn id="1490" dur="indefinite" nodeType="mainSeq">
                <p:childTnLst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4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0" dur="4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4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4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1" dur="8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2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908000" y="144360"/>
            <a:ext cx="5185080" cy="836640"/>
          </a:xfrm>
          <a:custGeom>
            <a:avLst/>
            <a:gdLst>
              <a:gd name="textAreaLeft" fmla="*/ 759240 w 5185080"/>
              <a:gd name="textAreaRight" fmla="*/ 4425840 w 5185080"/>
              <a:gd name="textAreaTop" fmla="*/ 122400 h 836640"/>
              <a:gd name="textAreaBottom" fmla="*/ 714240 h 83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6" y="14846"/>
                </a:lnTo>
                <a:lnTo>
                  <a:pt x="3163" y="18437"/>
                </a:lnTo>
                <a:lnTo>
                  <a:pt x="6580" y="20741"/>
                </a:lnTo>
                <a:lnTo>
                  <a:pt x="10800" y="21600"/>
                </a:lnTo>
                <a:lnTo>
                  <a:pt x="14846" y="20814"/>
                </a:lnTo>
                <a:lnTo>
                  <a:pt x="18437" y="18437"/>
                </a:lnTo>
                <a:lnTo>
                  <a:pt x="20741" y="15020"/>
                </a:lnTo>
                <a:lnTo>
                  <a:pt x="21600" y="10800"/>
                </a:lnTo>
                <a:lnTo>
                  <a:pt x="20814" y="6754"/>
                </a:lnTo>
                <a:lnTo>
                  <a:pt x="18437" y="3163"/>
                </a:lnTo>
                <a:lnTo>
                  <a:pt x="15020" y="859"/>
                </a:lnTo>
                <a:lnTo>
                  <a:pt x="10800" y="0"/>
                </a:lnTo>
                <a:lnTo>
                  <a:pt x="6754" y="786"/>
                </a:lnTo>
                <a:lnTo>
                  <a:pt x="3163" y="3163"/>
                </a:lnTo>
                <a:lnTo>
                  <a:pt x="859" y="658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ddd5c"/>
              </a:gs>
              <a:gs pos="50000">
                <a:srgbClr val="99cc00"/>
              </a:gs>
              <a:gs pos="100000">
                <a:srgbClr val="bddd5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6600"/>
                </a:solidFill>
                <a:latin typeface="Arial"/>
                <a:cs typeface="Arabic Transparent"/>
              </a:rPr>
              <a:t>المد اللاز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1280" y="1052640"/>
            <a:ext cx="1944720" cy="79200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تعريف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4360" y="1197000"/>
            <a:ext cx="6948720" cy="934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  <a:cs typeface="Tahoma"/>
              </a:rPr>
              <a:t>أن يأتي بعد حرف المد سكون أصلي في كلم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635280" y="2205000"/>
            <a:ext cx="1513080" cy="86364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cc"/>
                </a:solidFill>
                <a:latin typeface="Arial"/>
                <a:cs typeface="Tahoma"/>
              </a:rPr>
              <a:t>أنواع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076720" y="3500280"/>
            <a:ext cx="3743280" cy="9385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cc"/>
                </a:solidFill>
                <a:latin typeface="Arial"/>
                <a:cs typeface="Akhbar MT"/>
              </a:rPr>
              <a:t>فإذا جاءت  الطا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مَّـ</a:t>
            </a:r>
            <a:r>
              <a:rPr b="1" lang="ar-SA" sz="3600" spc="-1" strike="noStrike">
                <a:solidFill>
                  <a:srgbClr val="6600cc"/>
                </a:solidFill>
                <a:latin typeface="Arial"/>
                <a:cs typeface="Akhbar MT"/>
              </a:rPr>
              <a:t>ـ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92360" y="4653000"/>
            <a:ext cx="2950920" cy="7207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7eefa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cc"/>
                </a:solidFill>
                <a:latin typeface="Arial"/>
                <a:cs typeface="Tahoma"/>
              </a:rPr>
              <a:t>وجوب  الم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600cc"/>
                </a:solidFill>
                <a:latin typeface="Arial"/>
                <a:cs typeface="Akhbar MT"/>
              </a:rPr>
              <a:t>مقدار مد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5516640"/>
            <a:ext cx="5761080" cy="1268280"/>
          </a:xfrm>
          <a:prstGeom prst="wedgeEllipseCallout">
            <a:avLst>
              <a:gd name="adj1" fmla="val 48703"/>
              <a:gd name="adj2" fmla="val -10574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Arial"/>
                <a:cs typeface="Tahoma"/>
              </a:rPr>
              <a:t>يمد ست حركات لجميع أنواع المد اللاز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48360" y="2637000"/>
            <a:ext cx="9349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2771280" y="2637000"/>
            <a:ext cx="7923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56360" y="2205000"/>
            <a:ext cx="2592360" cy="792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Akhbar MT"/>
              </a:rPr>
              <a:t>مد لازم كلم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5280" y="2276640"/>
            <a:ext cx="23749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Akhbar MT"/>
              </a:rPr>
              <a:t>مد لازم حرفـ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3500280"/>
            <a:ext cx="3529080" cy="9385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cc"/>
                </a:solidFill>
                <a:latin typeface="Arial"/>
                <a:cs typeface="Akhbar MT"/>
              </a:rPr>
              <a:t>الم ــ الرــ حم،عس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604360" y="3068640"/>
            <a:ext cx="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8360" y="3068640"/>
            <a:ext cx="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292720" y="4581360"/>
            <a:ext cx="3166920" cy="792360"/>
          </a:xfrm>
          <a:prstGeom prst="flowChartOnlineStorag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00cc"/>
                </a:solidFill>
                <a:latin typeface="Arial"/>
                <a:cs typeface="Tahoma"/>
              </a:rPr>
              <a:t>حكم مــد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67" dur="indefinite" restart="never" nodeType="tmRoot">
          <p:childTnLst>
            <p:seq>
              <p:cTn id="1568" dur="indefinite" nodeType="mainSeq">
                <p:childTnLst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7" dur="4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8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8" dur="8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9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268360" y="0"/>
            <a:ext cx="4967640" cy="1125360"/>
          </a:xfrm>
          <a:custGeom>
            <a:avLst/>
            <a:gdLst>
              <a:gd name="textAreaLeft" fmla="*/ 1087560 w 4967640"/>
              <a:gd name="textAreaRight" fmla="*/ 3880080 w 4967640"/>
              <a:gd name="textAreaTop" fmla="*/ 246240 h 1125360"/>
              <a:gd name="textAreaBottom" fmla="*/ 87912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0" y="14016"/>
                </a:lnTo>
                <a:lnTo>
                  <a:pt x="3163" y="18437"/>
                </a:lnTo>
                <a:lnTo>
                  <a:pt x="7446" y="18703"/>
                </a:lnTo>
                <a:lnTo>
                  <a:pt x="10800" y="21600"/>
                </a:lnTo>
                <a:lnTo>
                  <a:pt x="14016" y="18760"/>
                </a:lnTo>
                <a:lnTo>
                  <a:pt x="18437" y="18437"/>
                </a:lnTo>
                <a:lnTo>
                  <a:pt x="18703" y="14154"/>
                </a:lnTo>
                <a:lnTo>
                  <a:pt x="21600" y="10800"/>
                </a:lnTo>
                <a:lnTo>
                  <a:pt x="18760" y="7584"/>
                </a:lnTo>
                <a:lnTo>
                  <a:pt x="18437" y="3163"/>
                </a:lnTo>
                <a:lnTo>
                  <a:pt x="14154" y="2897"/>
                </a:lnTo>
                <a:lnTo>
                  <a:pt x="10800" y="0"/>
                </a:lnTo>
                <a:lnTo>
                  <a:pt x="7584" y="2840"/>
                </a:lnTo>
                <a:lnTo>
                  <a:pt x="3163" y="3163"/>
                </a:lnTo>
                <a:lnTo>
                  <a:pt x="2897" y="7446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990099"/>
                </a:solidFill>
                <a:latin typeface="Arial"/>
                <a:cs typeface="Tahoma"/>
              </a:rPr>
              <a:t>تطبيقات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0920" y="1268280"/>
            <a:ext cx="8675640" cy="525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4360" y="155736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Tahoma"/>
              </a:rPr>
              <a:t>س : كم حكما للنون الساكنة و التنوين 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4360" y="494172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Tahoma"/>
              </a:rPr>
              <a:t>س : عدد أنواع المد  بالتفصيل 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4360" y="5732640"/>
            <a:ext cx="792000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  <a:cs typeface="Tahoma"/>
              </a:rPr>
              <a:t>عرف المد المتصل ’ و بين حكم مده ، ومقدار مده 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4360" y="3357720"/>
            <a:ext cx="792000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Tahoma"/>
              </a:rPr>
              <a:t>س :اذكر أحكام الميم الساكنة 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4360" y="414972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Tahoma"/>
              </a:rPr>
              <a:t>س : ماذا يسميان النون و الميم المشددتان 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242100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Tahoma"/>
              </a:rPr>
              <a:t>س  : عرف الإدغام و كم حروفه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fffff"/>
                </a:solidFill>
                <a:latin typeface="Arial Black"/>
                <a:cs typeface="Al-Hadith1"/>
              </a:rPr>
              <a:t>دروس الدورة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آداب تلاوة القرآن و سماعه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أحكام النون الساكنة و التنوين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نون و الميم المشدّدتان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أحكام الميم الساكنة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مد و أقسامه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مد الطبيعي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مد الفرعي و أقسام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تطبيقات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b7"/>
                </a:solidFill>
                <a:latin typeface="Arial Black"/>
                <a:cs typeface="PT Simple Bold Ruled"/>
              </a:rPr>
              <a:t>آداب تلاوة القرآن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أن يكون القارئ على طهارة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التعوذ عند القراءة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9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ffffff"/>
                </a:solidFill>
                <a:latin typeface="Arial"/>
              </a:rPr>
              <a:t>البسملة عند القراءة من أول السورة ما عدا سورة التوبة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خشوع عند تلاوة القرآن الكريم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تحسين الصوت بالقرآن الكريم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تدبر في معاني القرآن الكريم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990000"/>
                </a:solidFill>
                <a:latin typeface="Arial Black"/>
                <a:cs typeface="Al-Hadith1"/>
              </a:rPr>
              <a:t>آداب سماع القرآن الكريم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99"/>
                </a:solidFill>
                <a:latin typeface="Arial"/>
              </a:rPr>
              <a:t>الإنصات الجيد لقراءة القرآن </a:t>
            </a: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99"/>
                </a:solidFill>
                <a:latin typeface="Arial"/>
              </a:rPr>
              <a:t>عدم الكلام و العبث أثناء سماع القرآن الكريم </a:t>
            </a: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99"/>
                </a:solidFill>
                <a:latin typeface="Arial"/>
              </a:rPr>
              <a:t>عدم الانشغال في التفكر في آيات الرحمن الرحيم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  <a:ea typeface="PT Bold Broken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Arial Black"/>
                <a:cs typeface="PT Bold Broken"/>
              </a:rPr>
              <a:t>أحكام النون الساكنة و التنوين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1413000"/>
            <a:ext cx="7559640" cy="2376360"/>
          </a:xfrm>
          <a:prstGeom prst="downArrowCallout">
            <a:avLst>
              <a:gd name="adj1" fmla="val 73969"/>
              <a:gd name="adj2" fmla="val 58896"/>
              <a:gd name="adj3" fmla="val 22477"/>
              <a:gd name="adj4" fmla="val 6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3300"/>
                </a:solidFill>
                <a:latin typeface="Tahoma"/>
              </a:rPr>
              <a:t>س: ما هي النون الساكنة و التنوين  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59280" y="3645000"/>
            <a:ext cx="3960720" cy="2448000"/>
          </a:xfrm>
          <a:prstGeom prst="leftArrow">
            <a:avLst>
              <a:gd name="adj1" fmla="val 98861"/>
              <a:gd name="adj2" fmla="val 4104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00"/>
                </a:solidFill>
                <a:latin typeface="Tahoma"/>
              </a:rPr>
              <a:t>النون الساكن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      هي التي لا حركة لها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3300"/>
                </a:solidFill>
                <a:latin typeface="Tahoma"/>
              </a:rPr>
              <a:t>نْ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3645000"/>
            <a:ext cx="4319640" cy="2448000"/>
          </a:xfrm>
          <a:prstGeom prst="rightArrow">
            <a:avLst>
              <a:gd name="adj1" fmla="val 100000"/>
              <a:gd name="adj2" fmla="val 4980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ahoma"/>
              </a:rPr>
              <a:t>التنوين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ahoma"/>
              </a:rPr>
              <a:t>هو نون تلحق آخر الاسم نطقً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ahoma"/>
              </a:rPr>
              <a:t>لا كتابة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3300"/>
                </a:solidFill>
                <a:latin typeface="Tahoma"/>
              </a:rPr>
              <a:t>ً       ٍ      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189000"/>
            <a:ext cx="7705800" cy="1439640"/>
          </a:xfrm>
          <a:custGeom>
            <a:avLst/>
            <a:gdLst>
              <a:gd name="textAreaLeft" fmla="*/ 1087200 w 7705800"/>
              <a:gd name="textAreaRight" fmla="*/ 6618600 w 7705800"/>
              <a:gd name="textAreaTop" fmla="*/ 157680 h 1439640"/>
              <a:gd name="textAreaBottom" fmla="*/ 88884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8264"/>
                </a:moveTo>
                <a:arcTo wR="21600" hR="35552" stAng="-6559790" swAng="370838"/>
                <a:lnTo>
                  <a:pt x="3048" y="2368"/>
                </a:lnTo>
                <a:arcTo wR="21600" hR="35552" stAng="-6188952" swAng="1577904"/>
                <a:lnTo>
                  <a:pt x="18552" y="5869"/>
                </a:lnTo>
                <a:arcTo wR="21600" hR="35552" stAng="-4611048" swAng="370838"/>
                <a:lnTo>
                  <a:pt x="18900" y="12763"/>
                </a:lnTo>
                <a:lnTo>
                  <a:pt x="21600" y="21600"/>
                </a:lnTo>
                <a:lnTo>
                  <a:pt x="21600" y="21600"/>
                </a:lnTo>
                <a:arcTo wR="21600" hR="35552" stAng="-4240210" swAng="-660870"/>
                <a:lnTo>
                  <a:pt x="15852" y="14322"/>
                </a:lnTo>
                <a:arcTo wR="21600" hR="35552" stAng="-4901081" swAng="-997839"/>
                <a:lnTo>
                  <a:pt x="5748" y="17823"/>
                </a:lnTo>
                <a:arcTo wR="21600" hR="35552" stAng="-5898919" swAng="-660870"/>
                <a:lnTo>
                  <a:pt x="2700" y="12763"/>
                </a:lnTo>
                <a:close/>
              </a:path>
              <a:path fill="none" w="21600" h="21600">
                <a:moveTo>
                  <a:pt x="5748" y="14322"/>
                </a:moveTo>
                <a:arcTo wR="21600" hR="35552" stAng="-5898919" swAng="-290033"/>
                <a:lnTo>
                  <a:pt x="5748" y="17823"/>
                </a:lnTo>
              </a:path>
              <a:path fill="none" w="21600" h="21600">
                <a:moveTo>
                  <a:pt x="15852" y="14322"/>
                </a:moveTo>
                <a:arcTo wR="21600" hR="35552" stAng="-4901081" swAng="290033"/>
                <a:lnTo>
                  <a:pt x="15852" y="17823"/>
                </a:lnTo>
              </a:path>
              <a:path fill="none" w="21600" h="21600">
                <a:moveTo>
                  <a:pt x="3048" y="5869"/>
                </a:moveTo>
                <a:lnTo>
                  <a:pt x="3048" y="15704"/>
                </a:lnTo>
              </a:path>
              <a:path fill="none" w="21600" h="21600">
                <a:moveTo>
                  <a:pt x="18552" y="5869"/>
                </a:moveTo>
                <a:lnTo>
                  <a:pt x="18552" y="15704"/>
                </a:lnTo>
              </a:path>
            </a:pathLst>
          </a:cu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66cc"/>
                </a:solidFill>
                <a:latin typeface="Tahoma"/>
                <a:cs typeface="PT Simple Bold Ruled"/>
              </a:rPr>
              <a:t>أحكام النون الساكنة و التنوين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27640" y="2637000"/>
            <a:ext cx="2521080" cy="1871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</a:rPr>
              <a:t>الإظهــار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797360"/>
            <a:ext cx="3168360" cy="16560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</a:rPr>
              <a:t>الإدغــا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4795920"/>
            <a:ext cx="3024360" cy="17287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ahoma"/>
              </a:rPr>
              <a:t>الإقــــلاب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8000" y="2637000"/>
            <a:ext cx="2592360" cy="1871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</a:rPr>
              <a:t>الإخفـــا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87640" y="1268280"/>
            <a:ext cx="3168720" cy="64800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ahoma"/>
                <a:cs typeface="Tahoma"/>
              </a:rPr>
              <a:t>أربعــة أحكــام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76720" y="2060640"/>
            <a:ext cx="165600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2060640"/>
            <a:ext cx="1295640" cy="26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700000" y="2060640"/>
            <a:ext cx="1655640" cy="26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339640" y="2060640"/>
            <a:ext cx="158436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340000" y="333360"/>
            <a:ext cx="4248000" cy="107964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640"/>
              <a:gd name="textAreaBottom" fmla="*/ 952560 h 1079640"/>
            </a:gdLst>
            <a:ahLst/>
            <a:rect l="textAreaLeft" t="textAreaTop" r="textAreaRight" b="textAreaBottom"/>
            <a:pathLst>
              <a:path w="8496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67" y="21600"/>
                </a:lnTo>
                <a:arcTo wR="3600" hR="3600" stAng="10800000" swAng="5400000"/>
                <a:lnTo>
                  <a:pt x="84967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PT Simple Bold Ruled"/>
              </a:rPr>
              <a:t>الإظهــــار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1628640"/>
            <a:ext cx="6624360" cy="100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ahoma"/>
              </a:rPr>
              <a:t>هو أن تخرج النون الساكنة و التنوين من مخرجهم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ahoma"/>
              </a:rPr>
              <a:t>واضحتين بدون غ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1486080"/>
            <a:ext cx="1839960" cy="1150920"/>
          </a:xfrm>
          <a:prstGeom prst="leftArrow">
            <a:avLst>
              <a:gd name="adj1" fmla="val 98620"/>
              <a:gd name="adj2" fmla="val 4000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</a:rPr>
              <a:t>تعريفــ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20529000">
            <a:off x="7781760" y="4365720"/>
            <a:ext cx="936720" cy="12240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أ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862000">
            <a:off x="6409800" y="4437000"/>
            <a:ext cx="863640" cy="129564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6600"/>
                </a:solidFill>
                <a:latin typeface="Tahoma"/>
              </a:rPr>
              <a:t>ه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0644800">
            <a:off x="4897080" y="4508280"/>
            <a:ext cx="1008000" cy="12222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00"/>
                </a:solidFill>
                <a:latin typeface="Tahoma"/>
              </a:rPr>
              <a:t>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0657400">
            <a:off x="3203640" y="4581000"/>
            <a:ext cx="1008000" cy="108108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413200">
            <a:off x="1810800" y="4436640"/>
            <a:ext cx="1008360" cy="12240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20716200">
            <a:off x="495000" y="4436640"/>
            <a:ext cx="934920" cy="12240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خ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3068640"/>
            <a:ext cx="3816360" cy="1224000"/>
          </a:xfrm>
          <a:custGeom>
            <a:avLst/>
            <a:gdLst>
              <a:gd name="textAreaLeft" fmla="*/ 31680 w 3816360"/>
              <a:gd name="textAreaRight" fmla="*/ 3784680 w 3816360"/>
              <a:gd name="textAreaTop" fmla="*/ 252360 h 1224000"/>
              <a:gd name="textAreaBottom" fmla="*/ 971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ffff"/>
                </a:solidFill>
                <a:latin typeface="Tahoma"/>
              </a:rPr>
              <a:t>حروفــ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5734080"/>
            <a:ext cx="8064360" cy="112392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أ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خي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 ه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اك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ع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ـلمًا            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ح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ازه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غ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ـير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خ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ـاس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340000" y="333360"/>
            <a:ext cx="4248000" cy="107964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640"/>
              <a:gd name="textAreaBottom" fmla="*/ 952560 h 1079640"/>
            </a:gdLst>
            <a:ahLst/>
            <a:rect l="textAreaLeft" t="textAreaTop" r="textAreaRight" b="textAreaBottom"/>
            <a:pathLst>
              <a:path w="8496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67" y="21600"/>
                </a:lnTo>
                <a:arcTo wR="3600" hR="3600" stAng="10800000" swAng="5400000"/>
                <a:lnTo>
                  <a:pt x="84967" y="3600"/>
                </a:lnTo>
                <a:arcTo wR="3600" hR="3600" stAng="5400000" swAng="5400000"/>
                <a:close/>
              </a:path>
            </a:pathLst>
          </a:cu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Al-Hadith1"/>
              </a:rPr>
              <a:t>الإدغــــــام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l-Hadith1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93080" y="1486080"/>
            <a:ext cx="1839960" cy="1150920"/>
          </a:xfrm>
          <a:prstGeom prst="leftArrow">
            <a:avLst>
              <a:gd name="adj1" fmla="val 98620"/>
              <a:gd name="adj2" fmla="val 40004"/>
            </a:avLst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00"/>
                </a:solidFill>
                <a:latin typeface="Tahoma"/>
                <a:cs typeface="Al-Hadith1"/>
              </a:rPr>
              <a:t>تعريفــ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2781360"/>
            <a:ext cx="3600360" cy="1366920"/>
          </a:xfrm>
          <a:custGeom>
            <a:avLst/>
            <a:gdLst>
              <a:gd name="textAreaLeft" fmla="*/ 113400 w 3600360"/>
              <a:gd name="textAreaRight" fmla="*/ 3714120 w 3600360"/>
              <a:gd name="textAreaTop" fmla="*/ 161640 h 1366920"/>
              <a:gd name="textAreaBottom" fmla="*/ 1205280 h 1366920"/>
            </a:gdLst>
            <a:ahLst/>
            <a:rect l="textAreaLeft" t="textAreaTop" r="textAreaRight" b="textAreaBottom"/>
            <a:pathLst>
              <a:path w="21600" h="21600">
                <a:moveTo>
                  <a:pt x="682" y="1279"/>
                </a:moveTo>
                <a:cubicBezTo>
                  <a:pt x="3941" y="-3252"/>
                  <a:pt x="7882" y="5810"/>
                  <a:pt x="11141" y="1279"/>
                </a:cubicBezTo>
                <a:cubicBezTo>
                  <a:pt x="14400" y="-3252"/>
                  <a:pt x="18341" y="5810"/>
                  <a:pt x="21600" y="1279"/>
                </a:cubicBezTo>
                <a:lnTo>
                  <a:pt x="20918" y="20321"/>
                </a:lnTo>
                <a:cubicBezTo>
                  <a:pt x="17659" y="24852"/>
                  <a:pt x="13718" y="15790"/>
                  <a:pt x="10459" y="20321"/>
                </a:cubicBezTo>
                <a:cubicBezTo>
                  <a:pt x="7200" y="24852"/>
                  <a:pt x="3259" y="15790"/>
                  <a:pt x="0" y="20321"/>
                </a:cubicBezTo>
                <a:close/>
              </a:path>
            </a:pathLst>
          </a:cu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ahoma"/>
                <a:cs typeface="Al-Hadith1"/>
              </a:rPr>
              <a:t>حروفــ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1628640"/>
            <a:ext cx="6624360" cy="100836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Hesham Ghorn Italic"/>
              </a:rPr>
              <a:t>هو إدخال النون الساكنة أوالتنوين في أحد حروف الإدغا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85080" y="364500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92360" y="458136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450864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3789360"/>
            <a:ext cx="86328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59640" y="436572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4437000"/>
            <a:ext cx="863640" cy="9367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ffff"/>
                </a:solidFill>
                <a:latin typeface="Arial"/>
              </a:rPr>
              <a:t>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76360" y="5373720"/>
            <a:ext cx="5904000" cy="1484280"/>
          </a:xfrm>
          <a:prstGeom prst="horizontalScroll">
            <a:avLst>
              <a:gd name="adj" fmla="val 9944"/>
            </a:avLst>
          </a:prstGeom>
          <a:solidFill>
            <a:srgbClr val="00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Arial"/>
                <a:cs typeface="Al-Hadith1"/>
              </a:rPr>
              <a:t>يــ</a:t>
            </a:r>
            <a:r>
              <a:rPr b="0" lang="ar-SA" sz="5400" spc="-1" strike="noStrike">
                <a:solidFill>
                  <a:srgbClr val="ff3300"/>
                </a:solidFill>
                <a:latin typeface="Arial"/>
                <a:cs typeface="Al-Hadith1"/>
              </a:rPr>
              <a:t>ر</a:t>
            </a:r>
            <a:r>
              <a:rPr b="0" lang="ar-SA" sz="5400" spc="-1" strike="noStrike">
                <a:solidFill>
                  <a:srgbClr val="ffffff"/>
                </a:solidFill>
                <a:latin typeface="Arial"/>
                <a:cs typeface="Al-Hadith1"/>
              </a:rPr>
              <a:t>مـ</a:t>
            </a:r>
            <a:r>
              <a:rPr b="0" lang="ar-SA" sz="5400" spc="-1" strike="noStrike">
                <a:solidFill>
                  <a:srgbClr val="ff3300"/>
                </a:solidFill>
                <a:latin typeface="Arial"/>
                <a:cs typeface="Al-Hadith1"/>
              </a:rPr>
              <a:t>ـلـ</a:t>
            </a:r>
            <a:r>
              <a:rPr b="0" lang="ar-SA" sz="5400" spc="-1" strike="noStrike">
                <a:solidFill>
                  <a:srgbClr val="ffffff"/>
                </a:solidFill>
                <a:latin typeface="Arial"/>
                <a:cs typeface="Al-Hadith1"/>
              </a:rPr>
              <a:t>ـــــــــــــون</a:t>
            </a:r>
            <a:r>
              <a:rPr b="0" lang="ar-S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00:21:33Z</dcterms:created>
  <dc:creator>s</dc:creator>
  <dc:description/>
  <dc:language>en-US</dc:language>
  <cp:lastModifiedBy>جمعة</cp:lastModifiedBy>
  <dcterms:modified xsi:type="dcterms:W3CDTF">2008-11-13T00:10:09Z</dcterms:modified>
  <cp:revision>35</cp:revision>
  <dc:subject/>
  <dc:title>بسم الله الرحمن الرحيم  المملكة العربية السعودية  وزارة التربية و التعليم الإدارة العامة للتربية و التعليم بمنطقة المدينة المنورة  المدرسة الصيفية لتحفيظ القرآن الكريم  بمدرسة صلاح الدين الأيوبي  </dc:title>
</cp:coreProperties>
</file>