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290-397B-44DE-9A2E-5E3D5B7D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04C-5EF9-4A22-BA7B-9C057BA3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A6A-46AE-41D8-8B2B-2F2B322C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044-B54D-4D44-8E35-6CFB4845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1CF-2B1A-4867-91C0-B7A142C4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A65-20C9-4183-ADBB-3B498852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BC6-464A-44C3-B30D-1602C67A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89D-8EA1-47C8-9668-65D1E19F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862-E404-47B8-9CED-CC494108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FAD-72A5-4FB1-B88C-98B42A42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5EE-D5BA-43D7-A078-AE1AE024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463-9B0C-4932-B3DD-2EEBCA14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D1B5-43F8-476B-9B03-68CFFD09B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cc6600"/>
                </a:solidFill>
                <a:latin typeface="Arial"/>
              </a:rPr>
              <a:t>أسماء خالدة..من محاضرات شرح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4365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للشيخ : سليمان الله</a:t>
            </a:r>
            <a:r>
              <a:rPr b="1" lang="ar-SA" sz="3600" spc="-1" strike="noStrike">
                <a:solidFill>
                  <a:srgbClr val="967f1e"/>
                </a:solidFill>
                <a:latin typeface="Arial"/>
              </a:rPr>
              <a:t>ي</a:t>
            </a: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م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19760" y="836640"/>
            <a:ext cx="35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67f1e"/>
                </a:solidFill>
                <a:latin typeface="Arial"/>
              </a:rPr>
              <a:t>ترجمه ابن عم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5280" y="1987200"/>
            <a:ext cx="101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بد الله ابن عمر صاحبى جليل اسلم مع ابيه وهو صغير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قال الذهبى عن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: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امام القدوة شيخ الاسلام ابو عبد الرحمن القرش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عدوى المكى المدنى ا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15920" y="3716280"/>
            <a:ext cx="7947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صغير وهاجر مع ابيه ولم يحتلم واستصغر يوم اح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فأول غزواته هى الخندق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ما كان بايع تحت الشجرة روى علم كثير ناف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النبى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ن المكثرين فى علم الحديث عن النبى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52000"/>
            <a:ext cx="8161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يقول ابن عمر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رضنى الرسول فى يوم احد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رفض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عرضنى فى الخند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اجزنى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ى ومسلم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،،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كان مجاهد منذ نعوم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ضفا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كا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ابد كثير العبادة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وقيل لنافع ماذا كان ابن عمروفى منزله قال لاتطيقون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يتوضا لكل صلاة والمصحف فيما بين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284640"/>
            <a:ext cx="6275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قا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لنبى </a:t>
            </a:r>
            <a:r>
              <a:rPr b="1" lang="ar-KW" sz="2400" spc="-1" strike="noStrike">
                <a:solidFill>
                  <a:srgbClr val="967f1e"/>
                </a:solidFill>
                <a:latin typeface="Arial"/>
              </a:rPr>
              <a:t>صلى الله عليه وسلم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عبد الله ابن 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الرجل عبد الله لو كان يصل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من ال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ال سالم فكان بعدها لاينام من الليل الا ق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..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 ومس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ي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فى رواي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عبد الله رجل لو كان يكثر الصلاة باليل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"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يقول الحافظ ابن حجر بمقتضاه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ن من كان يصل اللي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يوصف بكونه نعم الرجل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987840" y="621000"/>
            <a:ext cx="1131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كان عمر من الزهاد فقال عنه ابن مسعود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”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ملك شباب قر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نفسه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عن الدني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هو ابن عمر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د اتينا ونحن متوافر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ما قينا شاب املك لنفسه من ابن عمر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الت عائشه رضى الله عن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رايت احد الزم من الامر الا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بن عمر 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"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91880" y="3357720"/>
            <a:ext cx="7813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قال نافع كلما قرا ابن عمر قوله تعا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“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م يان للذين ءامنوا ان تخشع قلو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لذكر الله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بكى حتى يغلبه البكاء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ذكر انه كلما ذك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رسول صلى الله عليه وسلم بكى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92280"/>
            <a:ext cx="71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روى عن النبى قال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حق امرء مسلم له شىء يوصى به يبيت فوق ليلتين الا ووصي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كتوبه عند رأس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قال ابن عمر فو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الله م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رت علي ليله منذ ان سمعت رسول الله يقول ذ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الا وعندي وصي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1480" y="3860640"/>
            <a:ext cx="686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توفى ابن عمر وهو عمرة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85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.فى عام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73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من الهج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1210000">
            <a:off x="0" y="98064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20493600">
            <a:off x="401400" y="2060640"/>
            <a:ext cx="755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اعداد طالب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ملتقى طالبات العل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10:35Z</dcterms:created>
  <dc:creator> HEART</dc:creator>
  <dc:description/>
  <cp:keywords/>
  <dc:language>en-US</dc:language>
  <cp:lastModifiedBy>xp</cp:lastModifiedBy>
  <dcterms:modified xsi:type="dcterms:W3CDTF">2007-07-02T10:47:08Z</dcterms:modified>
  <cp:revision>3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11025</vt:lpwstr>
  </property>
</Properties>
</file>