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ECF-CF64-4FD1-B64A-862E529F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A08-43F0-483A-8238-6049CCF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D24-7EDF-467D-9352-28AAA99C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5DF7-51C0-4673-B2AC-859B95C7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6CC-68A4-4DDC-9383-E9F011E7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25F-17A3-449C-96FD-72F29987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D54-2442-4045-A46D-AFD889B0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303-5162-4F3A-98ED-71DD6C24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382-E9B6-4F4F-91F0-8DD0B07D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FCB-F1C5-4CC5-9BF3-0463A023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D79-689C-4D50-A333-A8CFEC3F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DD9-626A-4D16-A6D0-07A0ADF4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3622-22C2-49EC-AA80-813E0A655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840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اسماء خالدة </a:t>
            </a:r>
            <a:br>
              <a:rPr sz="4400"/>
            </a:b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من شرح 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1692360" cy="19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00640" y="45007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62b7be"/>
                </a:solidFill>
                <a:latin typeface="Arial"/>
              </a:rPr>
              <a:t>للشيخ سليمان اللهم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السيده عائشه رضي الله تعالى عنها</a:t>
            </a:r>
            <a:br>
              <a:rPr sz="4400"/>
            </a:br>
            <a:r>
              <a:rPr b="0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سمها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  <a:ea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نت ابى بكر الصديق رضى الله عن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ح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النساء الى النبى صلى الله عليه وسلم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زوجها النبى عليه الصلاه وال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عد وفاه خديجه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ضى الله عن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cc0099"/>
                </a:solidFill>
                <a:latin typeface="Arial"/>
                <a:cs typeface="Arial"/>
              </a:rPr>
              <a:t>حبيبة النبي صلى الله عليه وسل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نزل الوح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على الرسول صلى الله عليه وسلم فى لحاف امرأة سواها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99"/>
                </a:solidFill>
                <a:latin typeface="Arial"/>
                <a:cs typeface="Arial"/>
              </a:rPr>
              <a:t>المبرئ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من فوق سبع سماوا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0099"/>
                </a:solidFill>
                <a:latin typeface="Arial"/>
                <a:cs typeface="Arial"/>
              </a:rPr>
              <a:t>حبيبه رسول الله صلى الله عليه وسلم</a:t>
            </a:r>
            <a:r>
              <a:rPr b="0" lang="en-US" sz="4800" spc="-1" strike="noStrike">
                <a:solidFill>
                  <a:srgbClr val="cc0099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16000" y="1628640"/>
            <a:ext cx="936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م يتزوج النبى صلى الله عليه وسلم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كر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غير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 من قذفها فهو كافر بإجماع 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cs typeface="Arial"/>
              </a:rPr>
              <a:t>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ه محمد صلى الله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يه وسلم لأنه مكذب بالق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سئل النبى صلى الله عليه وسلم "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ى الناس احب اليك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يا رسول الله؟ قال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 :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ه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,</a:t>
            </a:r>
            <a:r>
              <a:rPr b="1" lang="ar-KW" sz="40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ثم قيل من الرجال؟ قال ابوها</a:t>
            </a:r>
            <a:r>
              <a:rPr b="1" lang="ar-KW" sz="36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rial"/>
              </a:rPr>
              <a:t>وفاته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صلى الله عليه وسلم" يا عائشه هذا جبريل وهو يقرأ عليك السلام</a:t>
            </a:r>
            <a:r>
              <a:rPr b="1" lang="ar-KW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8080"/>
                </a:solidFill>
                <a:latin typeface="Arial"/>
                <a:cs typeface="Arial"/>
              </a:rPr>
              <a:t>وهى من اعلم اهل الارض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ابو موسى " ما اشكل علينا اصحاب محمدصلى الله عليه وسلم حديث ق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سألنا عائشه الا وجدنا عندها منه علم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اتت رضى الله عنها وارضاها سنه سبع وخمسون وقيل ثمان وخمسو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هذا العمل اعداد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cs typeface="Arial"/>
              </a:rPr>
              <a:t>طالبات دورة شرح </a:t>
            </a:r>
            <a:r>
              <a:rPr b="1" i="1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في ملتقى طالبات ال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63600">
            <a:off x="394920" y="436536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591200">
            <a:off x="2268360" y="407628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719800">
            <a:off x="4895640" y="432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18433800">
            <a:off x="6912000" y="3897000"/>
            <a:ext cx="1692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20:08Z</dcterms:created>
  <dc:creator> HEART</dc:creator>
  <dc:description/>
  <dc:language>en-US</dc:language>
  <cp:lastModifiedBy> HEART</cp:lastModifiedBy>
  <dcterms:modified xsi:type="dcterms:W3CDTF">2007-07-02T11:29:35Z</dcterms:modified>
  <cp:revision>2</cp:revision>
  <dc:subject/>
  <dc:title>اسماء خالدة  من شرح متن الاربعين النوويه</dc:title>
</cp:coreProperties>
</file>