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4174-1740-4CF5-9BFB-49903F70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2CA5-5368-47E1-83AC-1E811F19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320D-B8D6-46F7-ACA5-9E5FB091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1820-05A2-4179-8423-811B8BA8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0713-EF8C-4F0B-AA45-1DD734E4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5151-C0BA-4F74-955F-95786661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9F5-C518-4E00-8D1D-56D2E628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7547-1085-4EC5-A7F3-B5124D93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29AF-A61F-4376-BFD4-89882B13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E4D8-9BAC-4B45-8AA7-DF8D43D0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EB3C-6DA0-4840-9E99-4B56E939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DF31-EC39-4721-A829-B2C6F0EA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F42C-14C9-4B7D-AF6C-C80559FA6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133720"/>
            <a:ext cx="6840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660066"/>
                </a:solidFill>
                <a:latin typeface="Arial"/>
              </a:rPr>
              <a:t>اسماء خالدة </a:t>
            </a:r>
            <a:br>
              <a:rPr sz="4400"/>
            </a:br>
            <a:r>
              <a:rPr b="1" lang="ar-KW" sz="4400" spc="-1" strike="noStrike">
                <a:solidFill>
                  <a:srgbClr val="660066"/>
                </a:solidFill>
                <a:latin typeface="Arial"/>
              </a:rPr>
              <a:t>من شرح متن الاربعين النوو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1692360" cy="1908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92360" cy="190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79280" y="4797360"/>
            <a:ext cx="1692360" cy="1908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00640" y="4500720"/>
            <a:ext cx="45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62b7be"/>
                </a:solidFill>
                <a:latin typeface="Arial"/>
              </a:rPr>
              <a:t>للشيخ سليمان اللهم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90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333399"/>
                </a:solidFill>
                <a:latin typeface="Arial"/>
                <a:cs typeface="Arial"/>
              </a:rPr>
              <a:t>السيده عائشه رضي الله تعالى عنها</a:t>
            </a:r>
            <a:br>
              <a:rPr sz="4400"/>
            </a:br>
            <a:r>
              <a:rPr b="0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اسمها</a:t>
            </a:r>
            <a:r>
              <a:rPr b="0" lang="en-US" sz="4000" spc="-1" strike="noStrike">
                <a:solidFill>
                  <a:srgbClr val="cc0099"/>
                </a:solidFill>
                <a:latin typeface="Arial"/>
                <a:ea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عائشة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بنت ابى بكر الصديق رضى الله عن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احب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النساء الى النبى صلى الله عليه وسلم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تزوجها النبى عليه الصلاه والسلام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بعد وفاه خديجه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رضى الله عنه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000" spc="-1" strike="noStrike">
                <a:solidFill>
                  <a:srgbClr val="cc0099"/>
                </a:solidFill>
                <a:latin typeface="Arial"/>
                <a:cs typeface="Arial"/>
              </a:rPr>
              <a:t>حبيبة النبي صلى الله عليه وسل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ما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نزل الوحى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على الرسول صلى الله عليه وسلم فى لحاف امرأة سواها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99"/>
                </a:solidFill>
                <a:latin typeface="Arial"/>
                <a:cs typeface="Arial"/>
              </a:rPr>
              <a:t>المبرئه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من فوق سبع سماوا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90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c0099"/>
                </a:solidFill>
                <a:latin typeface="Arial"/>
                <a:cs typeface="Arial"/>
              </a:rPr>
              <a:t>حبيبه رسول الله صلى الله عليه وسلم</a:t>
            </a:r>
            <a:r>
              <a:rPr b="0" lang="en-US" sz="4800" spc="-1" strike="noStrike">
                <a:solidFill>
                  <a:srgbClr val="cc0099"/>
                </a:solidFill>
                <a:latin typeface="Arial"/>
                <a:ea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216000" y="1628640"/>
            <a:ext cx="9360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لم يتزوج النبى صلى الله عليه وسلم 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بكرا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غيره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و</a:t>
            </a:r>
            <a:r>
              <a:rPr b="1" lang="ar-KW" sz="4000" spc="-1" strike="noStrike">
                <a:solidFill>
                  <a:srgbClr val="000000"/>
                </a:solidFill>
                <a:latin typeface="Arial"/>
                <a:ea typeface="Arial"/>
              </a:rPr>
              <a:t> أ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ن من قذفها فهو كافر بإجماع </a:t>
            </a:r>
            <a:r>
              <a:rPr b="1" lang="ar-KW" sz="4000" spc="-1" strike="noStrike">
                <a:solidFill>
                  <a:srgbClr val="000000"/>
                </a:solidFill>
                <a:latin typeface="Arial"/>
                <a:cs typeface="Arial"/>
              </a:rPr>
              <a:t>أ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مه محمد صلى الله</a:t>
            </a:r>
            <a:r>
              <a:rPr b="1" lang="ar-KW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عليه وسلم لأنه مكذب بالقر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سئل النبى صلى الله عليه وسلم "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اى الناس احب اليك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ea typeface="Arial"/>
              </a:rPr>
              <a:t> يا رسول الله؟ قال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  <a:ea typeface="Arial"/>
              </a:rPr>
              <a:t> :</a:t>
            </a:r>
            <a:r>
              <a:rPr b="1" lang="ar-SA" sz="4000" spc="-1" strike="noStrike">
                <a:solidFill>
                  <a:srgbClr val="cc0099"/>
                </a:solidFill>
                <a:latin typeface="Arial"/>
                <a:cs typeface="Arial"/>
              </a:rPr>
              <a:t>عائشه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ea typeface="Arial"/>
              </a:rPr>
              <a:t> ,</a:t>
            </a:r>
            <a:r>
              <a:rPr b="1" lang="ar-KW" sz="4000" spc="-1" strike="noStrike">
                <a:solidFill>
                  <a:srgbClr val="80808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808080"/>
                </a:solidFill>
                <a:latin typeface="Arial"/>
                <a:cs typeface="Arial"/>
              </a:rPr>
              <a:t>ثم قيل من الرجال؟ قال ابوها</a:t>
            </a:r>
            <a:r>
              <a:rPr b="1" lang="ar-KW" sz="3600" spc="-1" strike="noStrike">
                <a:solidFill>
                  <a:srgbClr val="808080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950000"/>
            <a:ext cx="1692360" cy="190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rial"/>
              </a:rPr>
              <a:t>وفاتها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قال صلى الله عليه وسلم" يا عائشه هذا جبريل وهو يقرأ عليك السلام</a:t>
            </a:r>
            <a:r>
              <a:rPr b="1" lang="ar-KW" sz="3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8080"/>
                </a:solidFill>
                <a:latin typeface="Arial"/>
                <a:cs typeface="Arial"/>
              </a:rPr>
              <a:t>وهى من اعلم اهل الارض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قال ابو موسى " ما اشكل علينا اصحاب محمدصلى الله عليه وسلم حديث ق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فسألنا عائشه الا وجدنا عندها منه علم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ial"/>
              </a:rPr>
              <a:t>ماتت رضى الله عنها وارضاها سنه سبع وخمسون وقيل ثمان وخمسو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333399"/>
                </a:solidFill>
                <a:latin typeface="Arial"/>
                <a:cs typeface="Arial"/>
              </a:rPr>
              <a:t>هذا العمل اعداد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4400" spc="-1" strike="noStrike">
                <a:solidFill>
                  <a:srgbClr val="000000"/>
                </a:solidFill>
                <a:latin typeface="Arial"/>
                <a:cs typeface="Arial"/>
              </a:rPr>
              <a:t>طالبات دورة شرح </a:t>
            </a:r>
            <a:r>
              <a:rPr b="1" i="1" lang="ar-KW" sz="4400" spc="-1" strike="noStrike">
                <a:solidFill>
                  <a:srgbClr val="333399"/>
                </a:solidFill>
                <a:latin typeface="Arial"/>
                <a:cs typeface="Arial"/>
              </a:rPr>
              <a:t>متن الاربعين النوو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4400" spc="-1" strike="noStrike">
                <a:solidFill>
                  <a:srgbClr val="000000"/>
                </a:solidFill>
                <a:latin typeface="Arial"/>
                <a:ea typeface="Arial"/>
              </a:rPr>
              <a:t> في ملتقى طالبات العل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rot="2163600">
            <a:off x="394920" y="4365360"/>
            <a:ext cx="1692360" cy="190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 rot="19591200">
            <a:off x="2268360" y="4076280"/>
            <a:ext cx="1692360" cy="190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 rot="2719800">
            <a:off x="4895640" y="4329000"/>
            <a:ext cx="1692360" cy="190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 rot="18433800">
            <a:off x="6912000" y="3897000"/>
            <a:ext cx="169200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11:20:08Z</dcterms:created>
  <dc:creator> HEART</dc:creator>
  <dc:description/>
  <dc:language>en-US</dc:language>
  <cp:lastModifiedBy> HEART</cp:lastModifiedBy>
  <dcterms:modified xsi:type="dcterms:W3CDTF">2007-07-02T11:29:35Z</dcterms:modified>
  <cp:revision>2</cp:revision>
  <dc:subject/>
  <dc:title>اسماء خالدة  من شرح متن الاربعين النوويه</dc:title>
</cp:coreProperties>
</file>